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F38-6D22-4194-8449-194C1A62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672-F8F9-4BC7-ABC5-CEEA2792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3E6-441D-4835-AF4B-C3377BF5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F9B7-42D4-4785-846F-45863D39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D466-02AA-4640-901D-8B5B7659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57EC-BF6A-427A-B022-9D8A089A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5BA2-D1E9-403C-B47D-20D16471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21E4-1184-4B3F-B444-AB426D29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1F29-CFEC-4686-9A7F-469B12C5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1521-2983-42F6-9D7C-46B6C352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1E08-21DE-492B-9EBF-453D9B5F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16CF-FB8B-460A-A13E-4E554F5A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B9EC-675F-4C4B-8D92-4271E123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4E80-2E91-4AD8-8F86-DCFBC5A5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AD87-D021-4238-B209-BF3983DB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00DD-267D-4F69-92B7-83496446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4200-33D7-48FE-9A4A-9E8C8DD3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43A-F48C-43DF-BBEE-BF72D6BA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4374-3B8E-4933-A8F6-0FFE9E70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7ECF-9BE9-4B6E-8CB6-7FB22711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C80E-5F3C-488B-A98E-7CF90952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E4D-13D1-4F08-94BD-3D2A3330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763C-1807-43C5-A125-2889284B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569E-0A8D-4F00-8D72-10A3E5BB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3012d"/>
              </a:gs>
              <a:gs pos="100000">
                <a:srgbClr val="101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3012d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3012d"/>
              </a:gs>
              <a:gs pos="100000">
                <a:srgbClr val="00003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3a"/>
              </a:gs>
              <a:gs pos="100000">
                <a:srgbClr val="03012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3012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3012d"/>
              </a:gs>
              <a:gs pos="100000">
                <a:srgbClr val="00003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3a"/>
              </a:gs>
              <a:gs pos="100000">
                <a:srgbClr val="03012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101122"/>
              </a:gs>
              <a:gs pos="100000">
                <a:srgbClr val="03012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101122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ebd1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E349-31DC-43FA-AF47-E2557E706CA7}" type="slidenum">
              <a:rPr b="0" lang="ar-SA" sz="1400" spc="-1" strike="noStrike">
                <a:solidFill>
                  <a:srgbClr val="ebd189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3012d"/>
              </a:gs>
              <a:gs pos="100000">
                <a:srgbClr val="101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3012d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3012d"/>
              </a:gs>
              <a:gs pos="100000">
                <a:srgbClr val="00003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3a"/>
              </a:gs>
              <a:gs pos="100000">
                <a:srgbClr val="03012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3012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3012d"/>
              </a:gs>
              <a:gs pos="100000">
                <a:srgbClr val="00003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3a"/>
              </a:gs>
              <a:gs pos="100000">
                <a:srgbClr val="03012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101122"/>
              </a:gs>
              <a:gs pos="100000">
                <a:srgbClr val="03012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101122"/>
              </a:gs>
              <a:gs pos="100000">
                <a:srgbClr val="03012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ebd1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FBAD-09D6-4B7D-B6A6-8DAC4ED913F8}" type="slidenum">
              <a:rPr b="0" lang="ar-SA" sz="1400" spc="-1" strike="noStrike">
                <a:solidFill>
                  <a:srgbClr val="ebd189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908000" y="1916280"/>
            <a:ext cx="6305760" cy="20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eaeaea"/>
                  </a:outerShdw>
                </a:effectLst>
                <a:latin typeface="Traditional Arabic"/>
              </a:rPr>
              <a:t>قصة التاء المربوطة 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eaeaea"/>
                </a:outerShdw>
              </a:effectLst>
              <a:latin typeface="Traditional Arabic"/>
              <a:ea typeface="Traditional Arabic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346040" y="152280"/>
            <a:ext cx="4216680" cy="4097520"/>
            <a:chOff x="1346040" y="152280"/>
            <a:chExt cx="4216680" cy="4097520"/>
          </a:xfrm>
        </p:grpSpPr>
        <p:sp>
          <p:nvSpPr>
            <p:cNvPr id="102" name=""/>
            <p:cNvSpPr/>
            <p:nvPr/>
          </p:nvSpPr>
          <p:spPr>
            <a:xfrm>
              <a:off x="1346040" y="152280"/>
              <a:ext cx="4216680" cy="4097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bfb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460520" y="497520"/>
              <a:ext cx="3273840" cy="3131640"/>
              <a:chOff x="1460520" y="497520"/>
              <a:chExt cx="3273840" cy="3131640"/>
            </a:xfrm>
          </p:grpSpPr>
          <p:sp>
            <p:nvSpPr>
              <p:cNvPr id="104" name=""/>
              <p:cNvSpPr txBox="1"/>
              <p:nvPr/>
            </p:nvSpPr>
            <p:spPr>
              <a:xfrm rot="18401400">
                <a:off x="1506600" y="930960"/>
                <a:ext cx="1524240" cy="88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cc0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( </a:t>
                </a:r>
                <a:r>
                  <a:rPr b="0" lang="hi-IN" sz="2400" spc="1" strike="noStrike">
                    <a:ln w="0">
                      <a:noFill/>
                    </a:ln>
                    <a:solidFill>
                      <a:srgbClr val="cc0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ت</a:t>
                </a:r>
                <a:r>
                  <a:rPr b="0" lang="en-US" sz="2400" spc="1" strike="noStrike">
                    <a:ln w="0">
                      <a:noFill/>
                    </a:ln>
                    <a:solidFill>
                      <a:srgbClr val="cc0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 </a:t>
                </a:r>
                <a:r>
                  <a:rPr b="0" lang="en-US" sz="2400" spc="1" strike="noStrike">
                    <a:ln w="0">
                      <a:noFill/>
                    </a:ln>
                    <a:solidFill>
                      <a:srgbClr val="cc0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)</a:t>
                </a:r>
                <a:endPara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f0efe0"/>
                    </a:outerShdw>
                  </a:effectLst>
                  <a:latin typeface="Traditional Arabic"/>
                  <a:ea typeface="Traditional Arabic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 rot="18401400">
                <a:off x="1927080" y="1301400"/>
                <a:ext cx="2743200" cy="1536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1" strike="noStrike">
                    <a:ln w="0">
                      <a:noFill/>
                    </a:ln>
                    <a:solidFill>
                      <a:srgbClr val="cc0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التاء المفتوحة</a:t>
                </a:r>
                <a:endPara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f0efe0"/>
                    </a:outerShdw>
                  </a:effectLst>
                  <a:latin typeface="Traditional Arabic"/>
                  <a:ea typeface="Traditional Arabic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cc0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 </a:t>
                </a:r>
                <a:r>
                  <a:rPr b="0" lang="hi-IN" sz="2400" spc="1" strike="noStrike">
                    <a:ln w="0">
                      <a:noFill/>
                    </a:ln>
                    <a:solidFill>
                      <a:srgbClr val="cc0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آخر الكلمة</a:t>
                </a:r>
                <a:endPara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f0efe0"/>
                    </a:outerShdw>
                  </a:effectLst>
                  <a:latin typeface="Traditional Arabic"/>
                  <a:ea typeface="Traditional Arabic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4622760" y="152280"/>
            <a:ext cx="4216320" cy="4097520"/>
            <a:chOff x="4622760" y="152280"/>
            <a:chExt cx="4216320" cy="4097520"/>
          </a:xfrm>
        </p:grpSpPr>
        <p:sp>
          <p:nvSpPr>
            <p:cNvPr id="107" name=""/>
            <p:cNvSpPr/>
            <p:nvPr/>
          </p:nvSpPr>
          <p:spPr>
            <a:xfrm>
              <a:off x="4622760" y="152280"/>
              <a:ext cx="4216320" cy="4097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a5d3f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39400" y="758880"/>
              <a:ext cx="2872800" cy="2950200"/>
              <a:chOff x="5639400" y="758880"/>
              <a:chExt cx="2872800" cy="2950200"/>
            </a:xfrm>
          </p:grpSpPr>
          <p:sp>
            <p:nvSpPr>
              <p:cNvPr id="109" name=""/>
              <p:cNvSpPr txBox="1"/>
              <p:nvPr/>
            </p:nvSpPr>
            <p:spPr>
              <a:xfrm rot="3117600">
                <a:off x="5453280" y="1819800"/>
                <a:ext cx="2882520" cy="933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3333ff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 </a:t>
                </a:r>
                <a:r>
                  <a:rPr b="0" lang="hi-IN" sz="2400" spc="1" strike="noStrike">
                    <a:ln w="0">
                      <a:noFill/>
                    </a:ln>
                    <a:solidFill>
                      <a:srgbClr val="3333ff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الهاء آخر الكلمة</a:t>
                </a:r>
                <a:endParaRPr b="0" lang="en-US" sz="2400" spc="1" strike="noStrike">
                  <a:ln w="0">
                    <a:noFill/>
                  </a:ln>
                  <a:solidFill>
                    <a:srgbClr val="3333ff"/>
                  </a:solidFill>
                  <a:effectLst>
                    <a:outerShdw dist="17819" dir="2700000" blurRad="0" rotWithShape="0">
                      <a:srgbClr val="f0efe0"/>
                    </a:outerShdw>
                  </a:effectLst>
                  <a:latin typeface="Traditional Arabic"/>
                  <a:ea typeface="Traditional Arabic"/>
                </a:endParaRPr>
              </a:p>
            </p:txBody>
          </p:sp>
          <p:sp>
            <p:nvSpPr>
              <p:cNvPr id="110" name=""/>
              <p:cNvSpPr txBox="1"/>
              <p:nvPr/>
            </p:nvSpPr>
            <p:spPr>
              <a:xfrm rot="3117600">
                <a:off x="6878520" y="1224360"/>
                <a:ext cx="1602000" cy="861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3333ff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( </a:t>
                </a:r>
                <a:r>
                  <a:rPr b="0" lang="hi-IN" sz="2400" spc="1" strike="noStrike">
                    <a:ln w="0">
                      <a:noFill/>
                    </a:ln>
                    <a:solidFill>
                      <a:srgbClr val="3333ff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ه ، ـه</a:t>
                </a:r>
                <a:r>
                  <a:rPr b="0" lang="en-US" sz="2400" spc="1" strike="noStrike">
                    <a:ln w="0">
                      <a:noFill/>
                    </a:ln>
                    <a:solidFill>
                      <a:srgbClr val="3333ff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 </a:t>
                </a:r>
                <a:r>
                  <a:rPr b="0" lang="en-US" sz="2400" spc="1" strike="noStrike">
                    <a:ln w="0">
                      <a:noFill/>
                    </a:ln>
                    <a:solidFill>
                      <a:srgbClr val="3333ff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)</a:t>
                </a:r>
                <a:endParaRPr b="0" lang="en-US" sz="2400" spc="1" strike="noStrike">
                  <a:ln w="0">
                    <a:noFill/>
                  </a:ln>
                  <a:solidFill>
                    <a:srgbClr val="3333ff"/>
                  </a:solidFill>
                  <a:effectLst>
                    <a:outerShdw dist="17819" dir="2700000" blurRad="0" rotWithShape="0">
                      <a:srgbClr val="f0efe0"/>
                    </a:outerShdw>
                  </a:effectLst>
                  <a:latin typeface="Traditional Arabic"/>
                  <a:ea typeface="Traditional Arabic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894960" y="4746240"/>
            <a:ext cx="1695960" cy="2035440"/>
            <a:chOff x="894960" y="4746240"/>
            <a:chExt cx="1695960" cy="2035440"/>
          </a:xfrm>
        </p:grpSpPr>
        <p:grpSp>
          <p:nvGrpSpPr>
            <p:cNvPr id="112" name=""/>
            <p:cNvGrpSpPr/>
            <p:nvPr/>
          </p:nvGrpSpPr>
          <p:grpSpPr>
            <a:xfrm>
              <a:off x="894960" y="4746240"/>
              <a:ext cx="781200" cy="2035440"/>
              <a:chOff x="894960" y="4746240"/>
              <a:chExt cx="781200" cy="2035440"/>
            </a:xfrm>
          </p:grpSpPr>
          <p:sp>
            <p:nvSpPr>
              <p:cNvPr id="113" name=""/>
              <p:cNvSpPr/>
              <p:nvPr/>
            </p:nvSpPr>
            <p:spPr>
              <a:xfrm flipH="1" flipV="1">
                <a:off x="1143000" y="4755960"/>
                <a:ext cx="141120" cy="6696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1346040" y="4750920"/>
                <a:ext cx="284040" cy="200160"/>
                <a:chOff x="1346040" y="4750920"/>
                <a:chExt cx="284040" cy="200160"/>
              </a:xfrm>
            </p:grpSpPr>
            <p:sp>
              <p:nvSpPr>
                <p:cNvPr id="115" name=""/>
                <p:cNvSpPr/>
                <p:nvPr/>
              </p:nvSpPr>
              <p:spPr>
                <a:xfrm flipV="1">
                  <a:off x="1346040" y="4750920"/>
                  <a:ext cx="70920" cy="6660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1488240" y="4817520"/>
                  <a:ext cx="70920" cy="6660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1559160" y="4884480"/>
                  <a:ext cx="70920" cy="6660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V="1">
                  <a:off x="1416960" y="4783680"/>
                  <a:ext cx="70920" cy="6660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V="1">
                  <a:off x="1524600" y="4856040"/>
                  <a:ext cx="70920" cy="6660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948960" y="4746240"/>
                <a:ext cx="284040" cy="200160"/>
                <a:chOff x="948960" y="4746240"/>
                <a:chExt cx="284040" cy="200160"/>
              </a:xfrm>
            </p:grpSpPr>
            <p:sp>
              <p:nvSpPr>
                <p:cNvPr id="121" name=""/>
                <p:cNvSpPr/>
                <p:nvPr/>
              </p:nvSpPr>
              <p:spPr>
                <a:xfrm flipH="1" flipV="1">
                  <a:off x="1162080" y="4746240"/>
                  <a:ext cx="70920" cy="6660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 flipV="1">
                  <a:off x="1019880" y="4812840"/>
                  <a:ext cx="70920" cy="6660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 flipV="1">
                  <a:off x="948960" y="4879800"/>
                  <a:ext cx="70920" cy="6660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 flipV="1">
                  <a:off x="1091160" y="4779000"/>
                  <a:ext cx="70920" cy="6660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 flipV="1">
                  <a:off x="983520" y="4851360"/>
                  <a:ext cx="70920" cy="6660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1284120" y="4755960"/>
                <a:ext cx="0" cy="6696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894960" y="4822920"/>
                <a:ext cx="781200" cy="1958760"/>
                <a:chOff x="894960" y="4822920"/>
                <a:chExt cx="781200" cy="19587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284840" y="5357880"/>
                  <a:ext cx="0" cy="1136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000800" y="4822920"/>
                  <a:ext cx="567720" cy="534960"/>
                </a:xfrm>
                <a:prstGeom prst="ellipse">
                  <a:avLst/>
                </a:prstGeom>
                <a:solidFill>
                  <a:srgbClr val="eaeaea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" name=""/>
                <p:cNvGrpSpPr/>
                <p:nvPr/>
              </p:nvGrpSpPr>
              <p:grpSpPr>
                <a:xfrm>
                  <a:off x="894960" y="5625360"/>
                  <a:ext cx="781200" cy="334440"/>
                  <a:chOff x="894960" y="5625360"/>
                  <a:chExt cx="781200" cy="3344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1281960" y="5625360"/>
                    <a:ext cx="394200" cy="3344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>
                    <a:off x="894960" y="5625360"/>
                    <a:ext cx="394200" cy="3344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894960" y="6447240"/>
                  <a:ext cx="781200" cy="334440"/>
                  <a:chOff x="894960" y="6447240"/>
                  <a:chExt cx="781200" cy="33444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1281960" y="6447240"/>
                    <a:ext cx="394200" cy="3344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>
                    <a:off x="894960" y="6447240"/>
                    <a:ext cx="394200" cy="3344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6" name=""/>
              <p:cNvSpPr/>
              <p:nvPr/>
            </p:nvSpPr>
            <p:spPr>
              <a:xfrm>
                <a:off x="1143000" y="5024520"/>
                <a:ext cx="71280" cy="666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355400" y="5024520"/>
                <a:ext cx="71640" cy="666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7694400">
                <a:off x="1165680" y="5004720"/>
                <a:ext cx="276120" cy="27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924" y="59"/>
                    </a:moveTo>
                    <a:arcTo wR="10800" hR="10800" stAng="-5041512" swAng="59359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924" y="59"/>
                    </a:moveTo>
                    <a:arcTo wR="10800" hR="10800" stAng="-5041512" swAng="5935954"/>
                  </a:path>
                </a:pathLst>
              </a:cu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1536840" y="4876920"/>
              <a:ext cx="1054080" cy="1904760"/>
              <a:chOff x="1536840" y="4876920"/>
              <a:chExt cx="1054080" cy="190476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1536840" y="4910400"/>
                <a:ext cx="1054080" cy="708480"/>
                <a:chOff x="1536840" y="4910400"/>
                <a:chExt cx="1054080" cy="708480"/>
              </a:xfrm>
            </p:grpSpPr>
            <p:grpSp>
              <p:nvGrpSpPr>
                <p:cNvPr id="141" name=""/>
                <p:cNvGrpSpPr/>
                <p:nvPr/>
              </p:nvGrpSpPr>
              <p:grpSpPr>
                <a:xfrm>
                  <a:off x="1536840" y="4914000"/>
                  <a:ext cx="557640" cy="704880"/>
                  <a:chOff x="1536840" y="4914000"/>
                  <a:chExt cx="557640" cy="70488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1660680" y="4914000"/>
                    <a:ext cx="37188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1598760" y="4914000"/>
                    <a:ext cx="37188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1722600" y="4914000"/>
                    <a:ext cx="37188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536840" y="4943160"/>
                    <a:ext cx="37188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033280" y="4910400"/>
                  <a:ext cx="557640" cy="704880"/>
                  <a:chOff x="2033280" y="4910400"/>
                  <a:chExt cx="557640" cy="7048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flipH="1">
                    <a:off x="2094840" y="4910400"/>
                    <a:ext cx="37188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H="1">
                    <a:off x="2156760" y="4910400"/>
                    <a:ext cx="37188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>
                    <a:off x="2032920" y="4910400"/>
                    <a:ext cx="37188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>
                    <a:off x="2218680" y="4939560"/>
                    <a:ext cx="37188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1" name=""/>
              <p:cNvGrpSpPr/>
              <p:nvPr/>
            </p:nvGrpSpPr>
            <p:grpSpPr>
              <a:xfrm>
                <a:off x="1824840" y="4876920"/>
                <a:ext cx="471600" cy="117360"/>
                <a:chOff x="1824840" y="4876920"/>
                <a:chExt cx="471600" cy="1173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824840" y="4876920"/>
                  <a:ext cx="242280" cy="117360"/>
                </a:xfrm>
                <a:prstGeom prst="diamond">
                  <a:avLst/>
                </a:prstGeom>
                <a:solidFill>
                  <a:srgbClr val="000000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054160" y="4876920"/>
                  <a:ext cx="242280" cy="117360"/>
                </a:xfrm>
                <a:prstGeom prst="diamond">
                  <a:avLst/>
                </a:prstGeom>
                <a:solidFill>
                  <a:srgbClr val="000000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722600" y="5061240"/>
                <a:ext cx="681840" cy="1720440"/>
                <a:chOff x="1722600" y="5061240"/>
                <a:chExt cx="681840" cy="172044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1722600" y="5061240"/>
                  <a:ext cx="681840" cy="1720440"/>
                  <a:chOff x="1722600" y="5061240"/>
                  <a:chExt cx="681840" cy="172044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2063160" y="5531040"/>
                    <a:ext cx="0" cy="998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815120" y="5061240"/>
                    <a:ext cx="496080" cy="469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1722600" y="5766120"/>
                    <a:ext cx="681840" cy="293760"/>
                    <a:chOff x="1722600" y="5766120"/>
                    <a:chExt cx="681840" cy="29376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2060280" y="5766120"/>
                      <a:ext cx="344160" cy="29376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flipH="1">
                      <a:off x="1722600" y="5766120"/>
                      <a:ext cx="344520" cy="29376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1" name=""/>
                  <p:cNvGrpSpPr/>
                  <p:nvPr/>
                </p:nvGrpSpPr>
                <p:grpSpPr>
                  <a:xfrm>
                    <a:off x="1722600" y="6487920"/>
                    <a:ext cx="681840" cy="293760"/>
                    <a:chOff x="1722600" y="6487920"/>
                    <a:chExt cx="681840" cy="293760"/>
                  </a:xfrm>
                </p:grpSpPr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2060280" y="6487920"/>
                      <a:ext cx="344160" cy="29376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 flipH="1">
                      <a:off x="1722600" y="6487920"/>
                      <a:ext cx="344520" cy="29376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2112120" y="5237280"/>
                  <a:ext cx="123840" cy="58680"/>
                  <a:chOff x="2112120" y="5237280"/>
                  <a:chExt cx="123840" cy="5868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2143800" y="5237280"/>
                    <a:ext cx="61920" cy="58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2112120" y="5237280"/>
                    <a:ext cx="123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1908720" y="5237280"/>
                  <a:ext cx="123840" cy="58680"/>
                  <a:chOff x="1908720" y="5237280"/>
                  <a:chExt cx="123840" cy="5868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1940400" y="5237280"/>
                    <a:ext cx="61920" cy="58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1908720" y="5237280"/>
                    <a:ext cx="123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0" name=""/>
                <p:cNvSpPr/>
                <p:nvPr/>
              </p:nvSpPr>
              <p:spPr>
                <a:xfrm rot="7694400">
                  <a:off x="1962720" y="5220720"/>
                  <a:ext cx="243720" cy="238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924" y="59"/>
                      </a:moveTo>
                      <a:arcTo wR="10800" hR="10800" stAng="-5041512" swAng="59359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924" y="59"/>
                      </a:moveTo>
                      <a:arcTo wR="10800" hR="10800" stAng="-5041512" swAng="5935954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" name=""/>
            <p:cNvGrpSpPr/>
            <p:nvPr/>
          </p:nvGrpSpPr>
          <p:grpSpPr>
            <a:xfrm>
              <a:off x="1371600" y="5867280"/>
              <a:ext cx="620280" cy="914040"/>
              <a:chOff x="1371600" y="5867280"/>
              <a:chExt cx="620280" cy="91404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1371600" y="5911920"/>
                <a:ext cx="620280" cy="253800"/>
                <a:chOff x="1371600" y="5911920"/>
                <a:chExt cx="620280" cy="25380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1371600" y="5913000"/>
                  <a:ext cx="328680" cy="252720"/>
                  <a:chOff x="1371600" y="5913000"/>
                  <a:chExt cx="328680" cy="252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1444680" y="5913000"/>
                    <a:ext cx="21924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1407960" y="5913000"/>
                    <a:ext cx="21924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1481040" y="5913000"/>
                    <a:ext cx="21924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371600" y="5923440"/>
                    <a:ext cx="21924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1663200" y="5911920"/>
                  <a:ext cx="328680" cy="252720"/>
                  <a:chOff x="1663200" y="5911920"/>
                  <a:chExt cx="328680" cy="25272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>
                    <a:off x="1699200" y="5911920"/>
                    <a:ext cx="21924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>
                    <a:off x="1735920" y="5911920"/>
                    <a:ext cx="21924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>
                    <a:off x="1662840" y="5911920"/>
                    <a:ext cx="21924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>
                    <a:off x="1772280" y="5922360"/>
                    <a:ext cx="21924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1468440" y="5972400"/>
                <a:ext cx="434160" cy="808920"/>
                <a:chOff x="1468440" y="5972400"/>
                <a:chExt cx="434160" cy="8089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685160" y="6193440"/>
                  <a:ext cx="0" cy="469800"/>
                </a:xfrm>
                <a:prstGeom prst="line">
                  <a:avLst/>
                </a:prstGeom>
                <a:ln w="2844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527120" y="5972400"/>
                  <a:ext cx="316080" cy="2210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6" name=""/>
                <p:cNvGrpSpPr/>
                <p:nvPr/>
              </p:nvGrpSpPr>
              <p:grpSpPr>
                <a:xfrm>
                  <a:off x="1468440" y="6303960"/>
                  <a:ext cx="434160" cy="137880"/>
                  <a:chOff x="1468440" y="6303960"/>
                  <a:chExt cx="434160" cy="13788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683360" y="6303960"/>
                    <a:ext cx="219240" cy="137880"/>
                  </a:xfrm>
                  <a:prstGeom prst="line">
                    <a:avLst/>
                  </a:prstGeom>
                  <a:ln w="2844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>
                    <a:off x="1468440" y="6303960"/>
                    <a:ext cx="219600" cy="137880"/>
                  </a:xfrm>
                  <a:prstGeom prst="line">
                    <a:avLst/>
                  </a:prstGeom>
                  <a:ln w="2844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1468440" y="6643440"/>
                  <a:ext cx="434160" cy="137880"/>
                  <a:chOff x="1468440" y="6643440"/>
                  <a:chExt cx="434160" cy="13788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1683360" y="6643440"/>
                    <a:ext cx="219240" cy="137880"/>
                  </a:xfrm>
                  <a:prstGeom prst="line">
                    <a:avLst/>
                  </a:prstGeom>
                  <a:ln w="2844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>
                    <a:off x="1468440" y="6643440"/>
                    <a:ext cx="219600" cy="137880"/>
                  </a:xfrm>
                  <a:prstGeom prst="line">
                    <a:avLst/>
                  </a:prstGeom>
                  <a:ln w="2844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2" name=""/>
              <p:cNvSpPr/>
              <p:nvPr/>
            </p:nvSpPr>
            <p:spPr>
              <a:xfrm>
                <a:off x="1605960" y="6045120"/>
                <a:ext cx="39240" cy="27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24760" y="6045120"/>
                <a:ext cx="39240" cy="27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7694400">
                <a:off x="1631880" y="6013800"/>
                <a:ext cx="114120" cy="151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924" y="59"/>
                    </a:moveTo>
                    <a:arcTo wR="10800" hR="10800" stAng="-5041512" swAng="59359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924" y="59"/>
                    </a:moveTo>
                    <a:arcTo wR="10800" hR="10800" stAng="-5041512" swAng="5935954"/>
                  </a:path>
                </a:pathLst>
              </a:custGeom>
              <a:noFill/>
              <a:ln w="284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1523160" y="5867280"/>
                <a:ext cx="310320" cy="78120"/>
                <a:chOff x="1523160" y="5867280"/>
                <a:chExt cx="310320" cy="781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523160" y="5867280"/>
                  <a:ext cx="159480" cy="78120"/>
                </a:xfrm>
                <a:prstGeom prst="diamond">
                  <a:avLst/>
                </a:prstGeom>
                <a:solidFill>
                  <a:srgbClr val="000000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74000" y="5867280"/>
                  <a:ext cx="159480" cy="78120"/>
                </a:xfrm>
                <a:prstGeom prst="diamond">
                  <a:avLst/>
                </a:prstGeom>
                <a:solidFill>
                  <a:srgbClr val="000000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8" name=""/>
          <p:cNvGrpSpPr/>
          <p:nvPr/>
        </p:nvGrpSpPr>
        <p:grpSpPr>
          <a:xfrm>
            <a:off x="2954160" y="2666880"/>
            <a:ext cx="4216680" cy="4097520"/>
            <a:chOff x="2954160" y="2666880"/>
            <a:chExt cx="4216680" cy="4097520"/>
          </a:xfrm>
        </p:grpSpPr>
        <p:sp>
          <p:nvSpPr>
            <p:cNvPr id="199" name=""/>
            <p:cNvSpPr/>
            <p:nvPr/>
          </p:nvSpPr>
          <p:spPr>
            <a:xfrm>
              <a:off x="2954160" y="2666880"/>
              <a:ext cx="4216680" cy="4097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fb97d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7f7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3657600" y="4267080"/>
              <a:ext cx="2819520" cy="1676160"/>
              <a:chOff x="3657600" y="4267080"/>
              <a:chExt cx="2819520" cy="1676160"/>
            </a:xfrm>
          </p:grpSpPr>
          <p:sp>
            <p:nvSpPr>
              <p:cNvPr id="201" name=""/>
              <p:cNvSpPr txBox="1"/>
              <p:nvPr/>
            </p:nvSpPr>
            <p:spPr>
              <a:xfrm>
                <a:off x="4273560" y="4267080"/>
                <a:ext cx="1566360" cy="744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808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( </a:t>
                </a:r>
                <a:r>
                  <a:rPr b="0" lang="hi-IN" sz="2400" spc="1" strike="noStrike">
                    <a:ln w="0">
                      <a:noFill/>
                    </a:ln>
                    <a:solidFill>
                      <a:srgbClr val="808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ة ، ـة</a:t>
                </a:r>
                <a:r>
                  <a:rPr b="0" lang="en-US" sz="2400" spc="1" strike="noStrike">
                    <a:ln w="0">
                      <a:noFill/>
                    </a:ln>
                    <a:solidFill>
                      <a:srgbClr val="808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 </a:t>
                </a:r>
                <a:r>
                  <a:rPr b="0" lang="en-US" sz="2400" spc="1" strike="noStrike">
                    <a:ln w="0">
                      <a:noFill/>
                    </a:ln>
                    <a:solidFill>
                      <a:srgbClr val="808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)</a:t>
                </a:r>
                <a:endParaRPr b="0" lang="en-US" sz="2400" spc="1" strike="noStrike">
                  <a:ln w="0">
                    <a:noFill/>
                  </a:ln>
                  <a:solidFill>
                    <a:srgbClr val="808000"/>
                  </a:solidFill>
                  <a:effectLst>
                    <a:outerShdw dist="17819" dir="2700000" blurRad="0" rotWithShape="0">
                      <a:srgbClr val="f0efe0"/>
                    </a:outerShdw>
                  </a:effectLst>
                  <a:latin typeface="Traditional Arabic"/>
                  <a:ea typeface="Traditional Arabic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3657600" y="5136120"/>
                <a:ext cx="2819520" cy="807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1" strike="noStrike">
                    <a:ln w="0">
                      <a:noFill/>
                    </a:ln>
                    <a:solidFill>
                      <a:srgbClr val="808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التاء المربوطة</a:t>
                </a:r>
                <a:endParaRPr b="0" lang="en-US" sz="2400" spc="1" strike="noStrike">
                  <a:ln w="0">
                    <a:noFill/>
                  </a:ln>
                  <a:solidFill>
                    <a:srgbClr val="808000"/>
                  </a:solidFill>
                  <a:effectLst>
                    <a:outerShdw dist="17819" dir="2700000" blurRad="0" rotWithShape="0">
                      <a:srgbClr val="f0efe0"/>
                    </a:outerShdw>
                  </a:effectLst>
                  <a:latin typeface="Traditional Arabic"/>
                  <a:ea typeface="Traditional Arabic"/>
                </a:endParaRPr>
              </a:p>
            </p:txBody>
          </p:sp>
        </p:grpSp>
      </p:grp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5410080" y="1676520"/>
            <a:ext cx="3657240" cy="3657240"/>
            <a:chOff x="5410080" y="1676520"/>
            <a:chExt cx="3657240" cy="3657240"/>
          </a:xfrm>
        </p:grpSpPr>
        <p:sp>
          <p:nvSpPr>
            <p:cNvPr id="204" name=""/>
            <p:cNvSpPr/>
            <p:nvPr/>
          </p:nvSpPr>
          <p:spPr>
            <a:xfrm>
              <a:off x="5410080" y="1676520"/>
              <a:ext cx="3657240" cy="3657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a5d3f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096600" y="2066400"/>
              <a:ext cx="2831760" cy="2905560"/>
              <a:chOff x="6096600" y="2066400"/>
              <a:chExt cx="2831760" cy="2905560"/>
            </a:xfrm>
          </p:grpSpPr>
          <p:sp>
            <p:nvSpPr>
              <p:cNvPr id="206" name=""/>
              <p:cNvSpPr txBox="1"/>
              <p:nvPr/>
            </p:nvSpPr>
            <p:spPr>
              <a:xfrm rot="3117600">
                <a:off x="5915880" y="3111120"/>
                <a:ext cx="2833200" cy="921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3333ff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 </a:t>
                </a:r>
                <a:r>
                  <a:rPr b="0" lang="hi-IN" sz="2400" spc="1" strike="noStrike">
                    <a:ln w="0">
                      <a:noFill/>
                    </a:ln>
                    <a:solidFill>
                      <a:srgbClr val="3333ff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الهاء آخر الكلمة</a:t>
                </a:r>
                <a:endParaRPr b="1" lang="en-US" sz="2400" spc="1" strike="noStrike">
                  <a:ln w="0">
                    <a:noFill/>
                  </a:ln>
                  <a:solidFill>
                    <a:srgbClr val="3333ff"/>
                  </a:solidFill>
                  <a:effectLst>
                    <a:outerShdw dist="17819" dir="2700000" blurRad="0" rotWithShape="0">
                      <a:srgbClr val="f0efe0"/>
                    </a:outerShdw>
                  </a:effectLst>
                  <a:latin typeface="Traditional Arabic"/>
                  <a:ea typeface="Traditional Arabic"/>
                </a:endParaRPr>
              </a:p>
            </p:txBody>
          </p:sp>
          <p:sp>
            <p:nvSpPr>
              <p:cNvPr id="207" name=""/>
              <p:cNvSpPr txBox="1"/>
              <p:nvPr/>
            </p:nvSpPr>
            <p:spPr>
              <a:xfrm rot="3117600">
                <a:off x="7320960" y="2522880"/>
                <a:ext cx="1574640" cy="850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3333ff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( </a:t>
                </a:r>
                <a:r>
                  <a:rPr b="0" lang="hi-IN" sz="2400" spc="1" strike="noStrike">
                    <a:ln w="0">
                      <a:noFill/>
                    </a:ln>
                    <a:solidFill>
                      <a:srgbClr val="3333ff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ه ، ـه</a:t>
                </a:r>
                <a:r>
                  <a:rPr b="1" lang="en-US" sz="2400" spc="1" strike="noStrike">
                    <a:ln w="0">
                      <a:noFill/>
                    </a:ln>
                    <a:solidFill>
                      <a:srgbClr val="3333ff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 </a:t>
                </a:r>
                <a:r>
                  <a:rPr b="1" lang="en-US" sz="2400" spc="1" strike="noStrike">
                    <a:ln w="0">
                      <a:noFill/>
                    </a:ln>
                    <a:solidFill>
                      <a:srgbClr val="3333ff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)</a:t>
                </a:r>
                <a:endParaRPr b="1" lang="en-US" sz="2400" spc="1" strike="noStrike">
                  <a:ln w="0">
                    <a:noFill/>
                  </a:ln>
                  <a:solidFill>
                    <a:srgbClr val="3333ff"/>
                  </a:solidFill>
                  <a:effectLst>
                    <a:outerShdw dist="17819" dir="2700000" blurRad="0" rotWithShape="0">
                      <a:srgbClr val="f0efe0"/>
                    </a:outerShdw>
                  </a:effectLst>
                  <a:latin typeface="Traditional Arabic"/>
                  <a:ea typeface="Traditional Arabic"/>
                </a:endParaRPr>
              </a:p>
            </p:txBody>
          </p:sp>
        </p:grpSp>
      </p:grpSp>
      <p:grpSp>
        <p:nvGrpSpPr>
          <p:cNvPr id="208" name=""/>
          <p:cNvGrpSpPr/>
          <p:nvPr/>
        </p:nvGrpSpPr>
        <p:grpSpPr>
          <a:xfrm>
            <a:off x="852480" y="1606680"/>
            <a:ext cx="3642840" cy="3791880"/>
            <a:chOff x="852480" y="1606680"/>
            <a:chExt cx="3642840" cy="3791880"/>
          </a:xfrm>
        </p:grpSpPr>
        <p:sp>
          <p:nvSpPr>
            <p:cNvPr id="209" name=""/>
            <p:cNvSpPr/>
            <p:nvPr/>
          </p:nvSpPr>
          <p:spPr>
            <a:xfrm>
              <a:off x="852480" y="1606680"/>
              <a:ext cx="3642840" cy="3791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bfb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941400" y="1996560"/>
              <a:ext cx="2952360" cy="2718000"/>
              <a:chOff x="941400" y="1996560"/>
              <a:chExt cx="2952360" cy="2718000"/>
            </a:xfrm>
          </p:grpSpPr>
          <p:sp>
            <p:nvSpPr>
              <p:cNvPr id="211" name=""/>
              <p:cNvSpPr txBox="1"/>
              <p:nvPr/>
            </p:nvSpPr>
            <p:spPr>
              <a:xfrm rot="18401400">
                <a:off x="1014120" y="2352960"/>
                <a:ext cx="1285920" cy="826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cc0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( </a:t>
                </a:r>
                <a:r>
                  <a:rPr b="0" lang="hi-IN" sz="2400" spc="1" strike="noStrike">
                    <a:ln w="0">
                      <a:noFill/>
                    </a:ln>
                    <a:solidFill>
                      <a:srgbClr val="cc0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ت</a:t>
                </a:r>
                <a:r>
                  <a:rPr b="1" lang="en-US" sz="2400" spc="1" strike="noStrike">
                    <a:ln w="0">
                      <a:noFill/>
                    </a:ln>
                    <a:solidFill>
                      <a:srgbClr val="cc0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 </a:t>
                </a:r>
                <a:r>
                  <a:rPr b="1" lang="en-US" sz="2400" spc="1" strike="noStrike">
                    <a:ln w="0">
                      <a:noFill/>
                    </a:ln>
                    <a:solidFill>
                      <a:srgbClr val="cc0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)</a:t>
                </a:r>
                <a:endParaRPr b="1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f0efe0"/>
                    </a:outerShdw>
                  </a:effectLst>
                  <a:latin typeface="Traditional Arabic"/>
                  <a:ea typeface="Traditional Arabic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 rot="18401400">
                <a:off x="1466640" y="2633760"/>
                <a:ext cx="2314440" cy="1442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1" strike="noStrike">
                    <a:ln w="0">
                      <a:noFill/>
                    </a:ln>
                    <a:solidFill>
                      <a:srgbClr val="cc0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التاء المفتوحة</a:t>
                </a:r>
                <a:endParaRPr b="1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f0efe0"/>
                    </a:outerShdw>
                  </a:effectLst>
                  <a:latin typeface="Traditional Arabic"/>
                  <a:ea typeface="Traditional Arabic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cc0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 </a:t>
                </a:r>
                <a:r>
                  <a:rPr b="0" lang="hi-IN" sz="2400" spc="1" strike="noStrike">
                    <a:ln w="0">
                      <a:noFill/>
                    </a:ln>
                    <a:solidFill>
                      <a:srgbClr val="cc0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آخر الكلمة</a:t>
                </a:r>
                <a:endParaRPr b="1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f0efe0"/>
                    </a:outerShdw>
                  </a:effectLst>
                  <a:latin typeface="Traditional Arabic"/>
                  <a:ea typeface="Traditional Arabic"/>
                </a:endParaRPr>
              </a:p>
            </p:txBody>
          </p:sp>
        </p:grpSp>
      </p:grpSp>
      <p:grpSp>
        <p:nvGrpSpPr>
          <p:cNvPr id="213" name=""/>
          <p:cNvGrpSpPr/>
          <p:nvPr/>
        </p:nvGrpSpPr>
        <p:grpSpPr>
          <a:xfrm>
            <a:off x="3048120" y="2859120"/>
            <a:ext cx="3809880" cy="3770280"/>
            <a:chOff x="3048120" y="2859120"/>
            <a:chExt cx="3809880" cy="3770280"/>
          </a:xfrm>
        </p:grpSpPr>
        <p:sp>
          <p:nvSpPr>
            <p:cNvPr id="214" name=""/>
            <p:cNvSpPr/>
            <p:nvPr/>
          </p:nvSpPr>
          <p:spPr>
            <a:xfrm>
              <a:off x="3048120" y="2859120"/>
              <a:ext cx="3809880" cy="3770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fb97d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1011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3683160" y="4332240"/>
              <a:ext cx="2547720" cy="1541520"/>
              <a:chOff x="3683160" y="4332240"/>
              <a:chExt cx="2547720" cy="1541520"/>
            </a:xfrm>
          </p:grpSpPr>
          <p:sp>
            <p:nvSpPr>
              <p:cNvPr id="216" name=""/>
              <p:cNvSpPr txBox="1"/>
              <p:nvPr/>
            </p:nvSpPr>
            <p:spPr>
              <a:xfrm>
                <a:off x="4239720" y="4332240"/>
                <a:ext cx="1415520" cy="685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808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( </a:t>
                </a:r>
                <a:r>
                  <a:rPr b="0" lang="hi-IN" sz="2400" spc="1" strike="noStrike">
                    <a:ln w="0">
                      <a:noFill/>
                    </a:ln>
                    <a:solidFill>
                      <a:srgbClr val="808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ة ، ـة</a:t>
                </a:r>
                <a:r>
                  <a:rPr b="1" lang="en-US" sz="2400" spc="1" strike="noStrike">
                    <a:ln w="0">
                      <a:noFill/>
                    </a:ln>
                    <a:solidFill>
                      <a:srgbClr val="808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 </a:t>
                </a:r>
                <a:r>
                  <a:rPr b="1" lang="en-US" sz="2400" spc="1" strike="noStrike">
                    <a:ln w="0">
                      <a:noFill/>
                    </a:ln>
                    <a:solidFill>
                      <a:srgbClr val="808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)</a:t>
                </a:r>
                <a:endParaRPr b="1" lang="en-US" sz="2400" spc="1" strike="noStrike">
                  <a:ln w="0">
                    <a:noFill/>
                  </a:ln>
                  <a:solidFill>
                    <a:srgbClr val="808000"/>
                  </a:solidFill>
                  <a:effectLst>
                    <a:outerShdw dist="17819" dir="2700000" blurRad="0" rotWithShape="0">
                      <a:srgbClr val="f0efe0"/>
                    </a:outerShdw>
                  </a:effectLst>
                  <a:latin typeface="Traditional Arabic"/>
                  <a:ea typeface="Traditional Arabic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3683160" y="5131440"/>
                <a:ext cx="2547720" cy="742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1" strike="noStrike">
                    <a:ln w="0">
                      <a:noFill/>
                    </a:ln>
                    <a:solidFill>
                      <a:srgbClr val="808000"/>
                    </a:solidFill>
                    <a:effectLst>
                      <a:outerShdw dist="17819" dir="2700000" blurRad="0" rotWithShape="0">
                        <a:srgbClr val="f0efe0"/>
                      </a:outerShdw>
                    </a:effectLst>
                    <a:latin typeface="Traditional Arabic"/>
                  </a:rPr>
                  <a:t>التاء المربوطة</a:t>
                </a:r>
                <a:endParaRPr b="1" lang="en-US" sz="2400" spc="1" strike="noStrike">
                  <a:ln w="0">
                    <a:noFill/>
                  </a:ln>
                  <a:solidFill>
                    <a:srgbClr val="808000"/>
                  </a:solidFill>
                  <a:effectLst>
                    <a:outerShdw dist="17819" dir="2700000" blurRad="0" rotWithShape="0">
                      <a:srgbClr val="f0efe0"/>
                    </a:outerShdw>
                  </a:effectLst>
                  <a:latin typeface="Traditional Arabic"/>
                  <a:ea typeface="Traditional Arabic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3053880" y="2945520"/>
            <a:ext cx="3797640" cy="2355840"/>
            <a:chOff x="3053880" y="2945520"/>
            <a:chExt cx="3797640" cy="2355840"/>
          </a:xfrm>
        </p:grpSpPr>
        <p:grpSp>
          <p:nvGrpSpPr>
            <p:cNvPr id="219" name=""/>
            <p:cNvGrpSpPr/>
            <p:nvPr/>
          </p:nvGrpSpPr>
          <p:grpSpPr>
            <a:xfrm>
              <a:off x="3053880" y="2967840"/>
              <a:ext cx="1450080" cy="2333520"/>
              <a:chOff x="3053880" y="2967840"/>
              <a:chExt cx="1450080" cy="233352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053880" y="2967840"/>
                <a:ext cx="1337400" cy="2333520"/>
                <a:chOff x="3053880" y="2967840"/>
                <a:chExt cx="1337400" cy="2333520"/>
              </a:xfrm>
            </p:grpSpPr>
            <p:sp>
              <p:nvSpPr>
                <p:cNvPr id="221" name=""/>
                <p:cNvSpPr/>
                <p:nvPr/>
              </p:nvSpPr>
              <p:spPr>
                <a:xfrm flipH="1">
                  <a:off x="3152160" y="2967840"/>
                  <a:ext cx="1239120" cy="2333520"/>
                </a:xfrm>
                <a:prstGeom prst="line">
                  <a:avLst/>
                </a:prstGeom>
                <a:ln w="76320">
                  <a:solidFill>
                    <a:srgbClr val="010702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>
                  <a:off x="3123720" y="3047760"/>
                  <a:ext cx="1066680" cy="2057400"/>
                </a:xfrm>
                <a:prstGeom prst="line">
                  <a:avLst/>
                </a:prstGeom>
                <a:ln w="76320">
                  <a:solidFill>
                    <a:srgbClr val="010702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3060720" y="3130560"/>
                  <a:ext cx="914400" cy="1814400"/>
                </a:xfrm>
                <a:prstGeom prst="line">
                  <a:avLst/>
                </a:prstGeom>
                <a:ln w="76320">
                  <a:solidFill>
                    <a:srgbClr val="010702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>
                  <a:off x="3053880" y="3308400"/>
                  <a:ext cx="685800" cy="1295280"/>
                </a:xfrm>
                <a:prstGeom prst="line">
                  <a:avLst/>
                </a:prstGeom>
                <a:ln w="76320">
                  <a:solidFill>
                    <a:srgbClr val="010702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3168000" y="3689280"/>
                  <a:ext cx="228600" cy="457200"/>
                </a:xfrm>
                <a:prstGeom prst="line">
                  <a:avLst/>
                </a:prstGeom>
                <a:ln w="76320">
                  <a:solidFill>
                    <a:srgbClr val="010702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 flipH="1">
                <a:off x="3375000" y="3127320"/>
                <a:ext cx="1072440" cy="2054520"/>
              </a:xfrm>
              <a:prstGeom prst="line">
                <a:avLst/>
              </a:prstGeom>
              <a:ln w="76320">
                <a:solidFill>
                  <a:srgbClr val="010702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542760" y="3353040"/>
                <a:ext cx="961200" cy="1789920"/>
              </a:xfrm>
              <a:prstGeom prst="line">
                <a:avLst/>
              </a:prstGeom>
              <a:ln w="76320">
                <a:solidFill>
                  <a:srgbClr val="010702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3826800" y="3646440"/>
                <a:ext cx="667440" cy="1305000"/>
              </a:xfrm>
              <a:prstGeom prst="line">
                <a:avLst/>
              </a:prstGeom>
              <a:ln w="76320">
                <a:solidFill>
                  <a:srgbClr val="010702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4136040" y="4145400"/>
                <a:ext cx="243360" cy="449640"/>
              </a:xfrm>
              <a:prstGeom prst="line">
                <a:avLst/>
              </a:prstGeom>
              <a:ln w="76320">
                <a:solidFill>
                  <a:srgbClr val="010702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5401440" y="2945520"/>
              <a:ext cx="1450080" cy="2333520"/>
              <a:chOff x="5401440" y="2945520"/>
              <a:chExt cx="1450080" cy="233352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5514120" y="2945520"/>
                <a:ext cx="1337400" cy="2333520"/>
                <a:chOff x="5514120" y="2945520"/>
                <a:chExt cx="1337400" cy="23335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5514120" y="2945520"/>
                  <a:ext cx="1239120" cy="2333520"/>
                </a:xfrm>
                <a:prstGeom prst="line">
                  <a:avLst/>
                </a:prstGeom>
                <a:ln w="76320">
                  <a:solidFill>
                    <a:srgbClr val="010702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715000" y="3025440"/>
                  <a:ext cx="1066680" cy="2057400"/>
                </a:xfrm>
                <a:prstGeom prst="line">
                  <a:avLst/>
                </a:prstGeom>
                <a:ln w="76320">
                  <a:solidFill>
                    <a:srgbClr val="010702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930280" y="3108240"/>
                  <a:ext cx="914400" cy="1814400"/>
                </a:xfrm>
                <a:prstGeom prst="line">
                  <a:avLst/>
                </a:prstGeom>
                <a:ln w="76320">
                  <a:solidFill>
                    <a:srgbClr val="010702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65720" y="3286080"/>
                  <a:ext cx="685800" cy="1295280"/>
                </a:xfrm>
                <a:prstGeom prst="line">
                  <a:avLst/>
                </a:prstGeom>
                <a:ln w="76320">
                  <a:solidFill>
                    <a:srgbClr val="010702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508800" y="3666960"/>
                  <a:ext cx="228600" cy="457200"/>
                </a:xfrm>
                <a:prstGeom prst="line">
                  <a:avLst/>
                </a:prstGeom>
                <a:ln w="76320">
                  <a:solidFill>
                    <a:srgbClr val="010702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5457960" y="3105000"/>
                <a:ext cx="1072440" cy="2054520"/>
              </a:xfrm>
              <a:prstGeom prst="line">
                <a:avLst/>
              </a:prstGeom>
              <a:ln w="76320">
                <a:solidFill>
                  <a:srgbClr val="010702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01440" y="3330720"/>
                <a:ext cx="961200" cy="1789920"/>
              </a:xfrm>
              <a:prstGeom prst="line">
                <a:avLst/>
              </a:prstGeom>
              <a:ln w="76320">
                <a:solidFill>
                  <a:srgbClr val="010702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411160" y="3624120"/>
                <a:ext cx="667440" cy="1305000"/>
              </a:xfrm>
              <a:prstGeom prst="line">
                <a:avLst/>
              </a:prstGeom>
              <a:ln w="76320">
                <a:solidFill>
                  <a:srgbClr val="010702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26000" y="4123080"/>
                <a:ext cx="243360" cy="449640"/>
              </a:xfrm>
              <a:prstGeom prst="line">
                <a:avLst/>
              </a:prstGeom>
              <a:ln w="76320">
                <a:solidFill>
                  <a:srgbClr val="010702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851040" y="1609560"/>
            <a:ext cx="8216280" cy="3794040"/>
            <a:chOff x="851040" y="1609560"/>
            <a:chExt cx="8216280" cy="3794040"/>
          </a:xfrm>
        </p:grpSpPr>
        <p:sp>
          <p:nvSpPr>
            <p:cNvPr id="242" name=""/>
            <p:cNvSpPr/>
            <p:nvPr/>
          </p:nvSpPr>
          <p:spPr>
            <a:xfrm>
              <a:off x="851040" y="1609560"/>
              <a:ext cx="3643200" cy="3794040"/>
            </a:xfrm>
            <a:prstGeom prst="ellipse">
              <a:avLst/>
            </a:prstGeom>
            <a:noFill/>
            <a:ln w="57240">
              <a:solidFill>
                <a:srgbClr val="1011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10080" y="1676160"/>
              <a:ext cx="3657240" cy="3657600"/>
            </a:xfrm>
            <a:prstGeom prst="ellipse">
              <a:avLst/>
            </a:prstGeom>
            <a:noFill/>
            <a:ln w="57240">
              <a:solidFill>
                <a:srgbClr val="1011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V="1">
            <a:off x="2489040" y="4992480"/>
            <a:ext cx="889200" cy="1013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6543360" y="4907160"/>
            <a:ext cx="730800" cy="1133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676520" y="6095880"/>
            <a:ext cx="6553080" cy="533520"/>
            <a:chOff x="1676520" y="6095880"/>
            <a:chExt cx="6553080" cy="533520"/>
          </a:xfrm>
        </p:grpSpPr>
        <p:sp>
          <p:nvSpPr>
            <p:cNvPr id="247" name=""/>
            <p:cNvSpPr txBox="1"/>
            <p:nvPr/>
          </p:nvSpPr>
          <p:spPr>
            <a:xfrm>
              <a:off x="6648480" y="6095880"/>
              <a:ext cx="15811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latin typeface="Traditional Arabic"/>
                </a:rPr>
                <a:t>الصفات المشتركة</a:t>
              </a:r>
              <a:endPara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Traditional Arabic"/>
                <a:ea typeface="Traditional Arabic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1676520" y="6095880"/>
              <a:ext cx="15811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latin typeface="Traditional Arabic"/>
                </a:rPr>
                <a:t>الصفات المشتركة</a:t>
              </a:r>
              <a:endParaRPr b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Traditional Arabic"/>
                <a:ea typeface="Traditional Arabic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643280" y="76320"/>
            <a:ext cx="4195440" cy="1480680"/>
            <a:chOff x="4643280" y="76320"/>
            <a:chExt cx="4195440" cy="1480680"/>
          </a:xfrm>
        </p:grpSpPr>
        <p:sp>
          <p:nvSpPr>
            <p:cNvPr id="250" name=""/>
            <p:cNvSpPr txBox="1"/>
            <p:nvPr/>
          </p:nvSpPr>
          <p:spPr>
            <a:xfrm>
              <a:off x="4643280" y="76320"/>
              <a:ext cx="3852000" cy="14806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latin typeface="Traditional Arabic"/>
                </a:rPr>
                <a:t>هناك صفـات مشتركـة بين :</a:t>
              </a:r>
              <a:endParaRPr b="1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Traditional Arabic"/>
                <a:ea typeface="Traditional Arabic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blipFill rotWithShape="0">
                    <a:blip r:embed="rId7"/>
                    <a:srcRect/>
                    <a:stretch/>
                  </a:blipFill>
                  <a:latin typeface="Traditional Arabic"/>
                </a:rPr>
                <a:t>  </a:t>
              </a:r>
              <a:r>
                <a:rPr b="0" lang="hi-IN" sz="3200" spc="1" strike="noStrike">
                  <a:ln w="0">
                    <a:noFill/>
                  </a:ln>
                  <a:blipFill rotWithShape="0">
                    <a:blip r:embed="rId8"/>
                    <a:srcRect/>
                    <a:stretch/>
                  </a:blipFill>
                  <a:latin typeface="Traditional Arabic"/>
                </a:rPr>
                <a:t>التاء المربوطة و الهـــاء</a:t>
              </a:r>
              <a:r>
                <a:rPr b="1" lang="en-US" sz="3200" spc="1" strike="noStrike">
                  <a:ln w="0">
                    <a:noFill/>
                  </a:ln>
                  <a:blipFill rotWithShape="0">
                    <a:blip r:embed="rId9"/>
                    <a:srcRect/>
                    <a:stretch/>
                  </a:blipFill>
                  <a:latin typeface="Traditional Arabic"/>
                </a:rPr>
                <a:t> </a:t>
              </a:r>
              <a:endParaRPr b="1" lang="en-US" sz="32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latin typeface="Traditional Arabic"/>
                <a:ea typeface="Traditional Arabic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blipFill rotWithShape="0">
                    <a:blip r:embed="rId11"/>
                    <a:srcRect/>
                    <a:stretch/>
                  </a:blipFill>
                  <a:latin typeface="Traditional Arabic"/>
                </a:rPr>
                <a:t>  </a:t>
              </a:r>
              <a:r>
                <a:rPr b="0" lang="hi-IN" sz="3200" spc="1" strike="noStrike">
                  <a:ln w="0">
                    <a:noFill/>
                  </a:ln>
                  <a:blipFill rotWithShape="0">
                    <a:blip r:embed="rId12"/>
                    <a:srcRect/>
                    <a:stretch/>
                  </a:blipFill>
                  <a:latin typeface="Traditional Arabic"/>
                </a:rPr>
                <a:t>التاء المربوطة و التـــاء</a:t>
              </a:r>
              <a:endParaRPr b="1" lang="en-US" sz="32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latin typeface="Traditional Arabic"/>
                <a:ea typeface="Traditional Arabic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14"/>
            <a:stretch/>
          </p:blipFill>
          <p:spPr>
            <a:xfrm>
              <a:off x="8404920" y="777960"/>
              <a:ext cx="162720" cy="17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15"/>
            <a:stretch/>
          </p:blipFill>
          <p:spPr>
            <a:xfrm>
              <a:off x="8622000" y="231840"/>
              <a:ext cx="216720" cy="2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16"/>
            <a:stretch/>
          </p:blipFill>
          <p:spPr>
            <a:xfrm>
              <a:off x="8404920" y="1303920"/>
              <a:ext cx="162720" cy="175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333440" y="2895480"/>
            <a:ext cx="68198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63504" dir="3183908" blurRad="0" rotWithShape="0">
                    <a:srgbClr val="cc0000"/>
                  </a:outerShdw>
                </a:effectLst>
                <a:latin typeface="Traditional Arabic"/>
              </a:rPr>
              <a:t>مالفرق بينهم ؟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63504" dir="3183908" blurRad="0" rotWithShape="0">
                  <a:srgbClr val="cc0000"/>
                </a:outerShdw>
              </a:effectLst>
              <a:latin typeface="Traditional Arabic"/>
              <a:ea typeface="Traditional Arabic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043520" y="1460520"/>
            <a:ext cx="1608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f0efe0"/>
                  </a:outerShdw>
                </a:effectLst>
                <a:latin typeface="Traditional Arabic"/>
              </a:rPr>
              <a:t> </a:t>
            </a:r>
            <a:r>
              <a:rPr b="0" lang="hi-IN" sz="2400" spc="1" strike="noStrike">
                <a:ln w="0">
                  <a:noFill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f0efe0"/>
                  </a:outerShdw>
                </a:effectLst>
                <a:latin typeface="Traditional Arabic"/>
              </a:rPr>
              <a:t>ة</a:t>
            </a:r>
            <a:r>
              <a:rPr b="1" lang="en-US" sz="2400" spc="1" strike="noStrike">
                <a:ln w="0">
                  <a:noFill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f0efe0"/>
                  </a:outerShdw>
                </a:effectLst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808000"/>
              </a:solidFill>
              <a:effectLst>
                <a:outerShdw dist="17819" dir="2700000" blurRad="0" rotWithShape="0">
                  <a:srgbClr val="f0efe0"/>
                </a:outerShdw>
              </a:effectLst>
              <a:latin typeface="Traditional Arabic"/>
              <a:ea typeface="Traditional Arab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627280" y="1736640"/>
            <a:ext cx="84600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f0efe0"/>
                  </a:outerShdw>
                </a:effectLst>
                <a:latin typeface="Traditional Arabic"/>
              </a:rPr>
              <a:t>ت</a:t>
            </a:r>
            <a:endParaRPr b="1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f0efe0"/>
                </a:outerShdw>
              </a:effectLst>
              <a:latin typeface="Traditional Arabic"/>
              <a:ea typeface="Traditional Arabic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616800" y="1751040"/>
            <a:ext cx="476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f0efe0"/>
                  </a:outerShdw>
                </a:effectLst>
                <a:latin typeface="Traditional Arabic"/>
              </a:rPr>
              <a:t>ه</a:t>
            </a:r>
            <a:endParaRPr b="1" lang="en-US" sz="24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f0efe0"/>
                </a:outerShdw>
              </a:effectLst>
              <a:latin typeface="Traditional Arabic"/>
              <a:ea typeface="Traditional Arabic"/>
            </a:endParaRPr>
          </a:p>
        </p:txBody>
      </p:sp>
    </p:spTree>
  </p:cSld>
  <p:transition spd="med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187280" y="1700280"/>
            <a:ext cx="7488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63504" dir="3183908" blurRad="0" rotWithShape="0">
                    <a:srgbClr val="cc0000"/>
                  </a:outerShdw>
                </a:effectLst>
                <a:latin typeface="Traditional Arabic"/>
              </a:rPr>
              <a:t>كي نعرف الفرق ...!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63504" dir="3183908" blurRad="0" rotWithShape="0">
                  <a:srgbClr val="cc0000"/>
                </a:outerShdw>
              </a:effectLst>
              <a:latin typeface="Traditional Arabic"/>
              <a:ea typeface="Traditional Arabic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63504" dir="3183908" blurRad="0" rotWithShape="0">
                    <a:srgbClr val="cc0000"/>
                  </a:outerShdw>
                </a:effectLst>
                <a:latin typeface="Traditional Arabic"/>
              </a:rPr>
              <a:t>لابد لنا أن نتعرف على القصة التالية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63504" dir="3183908" blurRad="0" rotWithShape="0">
                  <a:srgbClr val="cc0000"/>
                </a:outerShdw>
              </a:effectLst>
              <a:latin typeface="Traditional Arabic"/>
              <a:ea typeface="Traditional Arabic"/>
            </a:endParaRPr>
          </a:p>
        </p:txBody>
      </p:sp>
    </p:spTree>
  </p:cSld>
  <p:transition spd="med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1476360" y="228600"/>
            <a:ext cx="7286760" cy="2339640"/>
            <a:chOff x="1476360" y="228600"/>
            <a:chExt cx="7286760" cy="2339640"/>
          </a:xfrm>
        </p:grpSpPr>
        <p:sp>
          <p:nvSpPr>
            <p:cNvPr id="260" name=""/>
            <p:cNvSpPr/>
            <p:nvPr/>
          </p:nvSpPr>
          <p:spPr>
            <a:xfrm>
              <a:off x="2556000" y="228600"/>
              <a:ext cx="1606320" cy="704880"/>
            </a:xfrm>
            <a:prstGeom prst="wedgeEllipseCallout">
              <a:avLst>
                <a:gd name="adj1" fmla="val -63930"/>
                <a:gd name="adj2" fmla="val 45495"/>
              </a:avLst>
            </a:prstGeom>
            <a:noFill/>
            <a:ln w="936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66ff"/>
                  </a:solidFill>
                  <a:latin typeface="MCS FREEDOM"/>
                  <a:cs typeface="Traditional Arabic"/>
                </a:rPr>
                <a:t>أنا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66ff"/>
                  </a:solidFill>
                  <a:latin typeface="MCS FREEDOM"/>
                  <a:cs typeface="Traditional Arabic"/>
                </a:rPr>
                <a:t>هاء آخر الكلمة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35280" y="1219320"/>
              <a:ext cx="5127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eaeaea"/>
                  </a:solidFill>
                  <a:latin typeface="Arial Narrow"/>
                  <a:cs typeface="Traditional Arabic"/>
                </a:rPr>
                <a:t>كان هناك رجل يدعى </a:t>
              </a:r>
              <a:r>
                <a:rPr b="1" lang="ar-SA" sz="2800" spc="-1" strike="noStrike">
                  <a:solidFill>
                    <a:srgbClr val="0066ff"/>
                  </a:solidFill>
                  <a:latin typeface="Arial Narrow"/>
                  <a:cs typeface="Traditional Arabic"/>
                </a:rPr>
                <a:t>هاء آخر الكلمة</a:t>
              </a:r>
              <a:r>
                <a:rPr b="1" lang="ar-SA" sz="2800" spc="-1" strike="noStrike">
                  <a:solidFill>
                    <a:srgbClr val="eaeaea"/>
                  </a:solidFill>
                  <a:latin typeface="Arial Narrow"/>
                  <a:ea typeface="Traditional Arabic"/>
                </a:rPr>
                <a:t> ( </a:t>
              </a:r>
              <a:r>
                <a:rPr b="1" lang="ar-SA" sz="2800" spc="-1" strike="noStrike">
                  <a:solidFill>
                    <a:srgbClr val="0066ff"/>
                  </a:solidFill>
                  <a:latin typeface="Arial Narrow"/>
                  <a:cs typeface="Traditional Arabic"/>
                </a:rPr>
                <a:t>ـه</a:t>
              </a:r>
              <a:r>
                <a:rPr b="1" lang="ar-SA" sz="2800" spc="-1" strike="noStrike">
                  <a:solidFill>
                    <a:srgbClr val="eaeaea"/>
                  </a:solidFill>
                  <a:latin typeface="Arial Narrow"/>
                  <a:ea typeface="Traditional Arabic"/>
                </a:rPr>
                <a:t> ، </a:t>
              </a:r>
              <a:r>
                <a:rPr b="1" lang="ar-SA" sz="2800" spc="-1" strike="noStrike">
                  <a:solidFill>
                    <a:srgbClr val="0066ff"/>
                  </a:solidFill>
                  <a:latin typeface="Arial Narrow"/>
                  <a:cs typeface="Traditional Arabic"/>
                </a:rPr>
                <a:t>ه</a:t>
              </a:r>
              <a:r>
                <a:rPr b="1" lang="ar-SA" sz="2800" spc="-1" strike="noStrike">
                  <a:solidFill>
                    <a:srgbClr val="eaeaea"/>
                  </a:solidFill>
                  <a:latin typeface="Arial Narrow"/>
                  <a:ea typeface="Traditional Arabic"/>
                </a:rPr>
                <a:t> )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476360" y="685800"/>
              <a:ext cx="781200" cy="1882440"/>
              <a:chOff x="1476360" y="685800"/>
              <a:chExt cx="781200" cy="1882440"/>
            </a:xfrm>
          </p:grpSpPr>
          <p:sp>
            <p:nvSpPr>
              <p:cNvPr id="263" name=""/>
              <p:cNvSpPr/>
              <p:nvPr/>
            </p:nvSpPr>
            <p:spPr>
              <a:xfrm flipH="1" flipV="1">
                <a:off x="1723680" y="695160"/>
                <a:ext cx="141480" cy="60480"/>
              </a:xfrm>
              <a:prstGeom prst="line">
                <a:avLst/>
              </a:prstGeom>
              <a:ln w="38160">
                <a:solidFill>
                  <a:srgbClr val="8185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1927440" y="690480"/>
                <a:ext cx="284040" cy="183960"/>
                <a:chOff x="1927440" y="690480"/>
                <a:chExt cx="284040" cy="183960"/>
              </a:xfrm>
            </p:grpSpPr>
            <p:sp>
              <p:nvSpPr>
                <p:cNvPr id="265" name=""/>
                <p:cNvSpPr/>
                <p:nvPr/>
              </p:nvSpPr>
              <p:spPr>
                <a:xfrm flipV="1">
                  <a:off x="1927440" y="690480"/>
                  <a:ext cx="70920" cy="61200"/>
                </a:xfrm>
                <a:prstGeom prst="line">
                  <a:avLst/>
                </a:prstGeom>
                <a:ln w="38160">
                  <a:solidFill>
                    <a:srgbClr val="8185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V="1">
                  <a:off x="2069640" y="751680"/>
                  <a:ext cx="70920" cy="61200"/>
                </a:xfrm>
                <a:prstGeom prst="line">
                  <a:avLst/>
                </a:prstGeom>
                <a:ln w="38160">
                  <a:solidFill>
                    <a:srgbClr val="8185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2140560" y="813240"/>
                  <a:ext cx="70920" cy="61200"/>
                </a:xfrm>
                <a:prstGeom prst="line">
                  <a:avLst/>
                </a:prstGeom>
                <a:ln w="38160">
                  <a:solidFill>
                    <a:srgbClr val="8185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1998360" y="720720"/>
                  <a:ext cx="70920" cy="61200"/>
                </a:xfrm>
                <a:prstGeom prst="line">
                  <a:avLst/>
                </a:prstGeom>
                <a:ln w="38160">
                  <a:solidFill>
                    <a:srgbClr val="8185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2106000" y="787320"/>
                  <a:ext cx="70920" cy="61200"/>
                </a:xfrm>
                <a:prstGeom prst="line">
                  <a:avLst/>
                </a:prstGeom>
                <a:ln w="38160">
                  <a:solidFill>
                    <a:srgbClr val="8185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1530360" y="685800"/>
                <a:ext cx="284400" cy="185760"/>
                <a:chOff x="1530360" y="685800"/>
                <a:chExt cx="284400" cy="185760"/>
              </a:xfrm>
            </p:grpSpPr>
            <p:sp>
              <p:nvSpPr>
                <p:cNvPr id="271" name=""/>
                <p:cNvSpPr/>
                <p:nvPr/>
              </p:nvSpPr>
              <p:spPr>
                <a:xfrm flipH="1" flipV="1">
                  <a:off x="1743840" y="685800"/>
                  <a:ext cx="70920" cy="61920"/>
                </a:xfrm>
                <a:prstGeom prst="line">
                  <a:avLst/>
                </a:prstGeom>
                <a:ln w="38160">
                  <a:solidFill>
                    <a:srgbClr val="8185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flipV="1">
                  <a:off x="1601640" y="747720"/>
                  <a:ext cx="70920" cy="61920"/>
                </a:xfrm>
                <a:prstGeom prst="line">
                  <a:avLst/>
                </a:prstGeom>
                <a:ln w="38160">
                  <a:solidFill>
                    <a:srgbClr val="8185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>
                  <a:off x="1530360" y="809640"/>
                  <a:ext cx="70920" cy="61920"/>
                </a:xfrm>
                <a:prstGeom prst="line">
                  <a:avLst/>
                </a:prstGeom>
                <a:ln w="38160">
                  <a:solidFill>
                    <a:srgbClr val="8185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 flipV="1">
                  <a:off x="1672920" y="716400"/>
                  <a:ext cx="70920" cy="61920"/>
                </a:xfrm>
                <a:prstGeom prst="line">
                  <a:avLst/>
                </a:prstGeom>
                <a:ln w="38160">
                  <a:solidFill>
                    <a:srgbClr val="8185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 flipV="1">
                  <a:off x="1565280" y="783360"/>
                  <a:ext cx="70920" cy="61920"/>
                </a:xfrm>
                <a:prstGeom prst="line">
                  <a:avLst/>
                </a:prstGeom>
                <a:ln w="38160">
                  <a:solidFill>
                    <a:srgbClr val="8185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1865520" y="695160"/>
                <a:ext cx="0" cy="60480"/>
              </a:xfrm>
              <a:prstGeom prst="line">
                <a:avLst/>
              </a:prstGeom>
              <a:ln w="38160">
                <a:solidFill>
                  <a:srgbClr val="8185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476360" y="755640"/>
                <a:ext cx="781200" cy="1812600"/>
                <a:chOff x="1476360" y="755640"/>
                <a:chExt cx="781200" cy="181260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865880" y="1250640"/>
                  <a:ext cx="0" cy="10522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581840" y="755640"/>
                  <a:ext cx="568080" cy="495000"/>
                </a:xfrm>
                <a:prstGeom prst="ellipse">
                  <a:avLst/>
                </a:prstGeom>
                <a:solidFill>
                  <a:srgbClr val="eaeaea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1476360" y="1498320"/>
                  <a:ext cx="781200" cy="309240"/>
                  <a:chOff x="1476360" y="1498320"/>
                  <a:chExt cx="781200" cy="30924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1863000" y="1498320"/>
                    <a:ext cx="394560" cy="309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>
                    <a:off x="1476360" y="1498320"/>
                    <a:ext cx="394560" cy="309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1476360" y="2259000"/>
                  <a:ext cx="781200" cy="309240"/>
                  <a:chOff x="1476360" y="2259000"/>
                  <a:chExt cx="781200" cy="30924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1863000" y="2259000"/>
                    <a:ext cx="394560" cy="309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>
                    <a:off x="1476360" y="2259000"/>
                    <a:ext cx="394560" cy="309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6" name=""/>
              <p:cNvSpPr/>
              <p:nvPr/>
            </p:nvSpPr>
            <p:spPr>
              <a:xfrm>
                <a:off x="1724040" y="942840"/>
                <a:ext cx="71640" cy="6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36800" y="942840"/>
                <a:ext cx="71640" cy="6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7694400">
                <a:off x="1754640" y="912240"/>
                <a:ext cx="253800" cy="27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924" y="59"/>
                    </a:moveTo>
                    <a:arcTo wR="10800" hR="10800" stAng="-5041512" swAng="59359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924" y="59"/>
                    </a:moveTo>
                    <a:arcTo wR="10800" hR="10800" stAng="-5041512" swAng="5935954"/>
                  </a:path>
                </a:pathLst>
              </a:cu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3657600" y="609480"/>
            <a:ext cx="5276880" cy="947160"/>
            <a:chOff x="3657600" y="609480"/>
            <a:chExt cx="5276880" cy="947160"/>
          </a:xfrm>
        </p:grpSpPr>
        <p:sp>
          <p:nvSpPr>
            <p:cNvPr id="290" name=""/>
            <p:cNvSpPr/>
            <p:nvPr/>
          </p:nvSpPr>
          <p:spPr>
            <a:xfrm>
              <a:off x="3657600" y="609480"/>
              <a:ext cx="510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eaeaea"/>
                  </a:solidFill>
                  <a:latin typeface="Arial Narrow"/>
                  <a:cs typeface="Traditional Arabic"/>
                </a:rPr>
                <a:t>كان يا مكان في قديم الزمان ......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8763120" y="76212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2" name=""/>
          <p:cNvGrpSpPr/>
          <p:nvPr/>
        </p:nvGrpSpPr>
        <p:grpSpPr>
          <a:xfrm>
            <a:off x="1403280" y="2590920"/>
            <a:ext cx="7543800" cy="2133000"/>
            <a:chOff x="1403280" y="2590920"/>
            <a:chExt cx="7543800" cy="2133000"/>
          </a:xfrm>
        </p:grpSpPr>
        <p:grpSp>
          <p:nvGrpSpPr>
            <p:cNvPr id="293" name=""/>
            <p:cNvGrpSpPr/>
            <p:nvPr/>
          </p:nvGrpSpPr>
          <p:grpSpPr>
            <a:xfrm>
              <a:off x="1403280" y="2590920"/>
              <a:ext cx="7359840" cy="2133000"/>
              <a:chOff x="1403280" y="2590920"/>
              <a:chExt cx="7359840" cy="2133000"/>
            </a:xfrm>
          </p:grpSpPr>
          <p:sp>
            <p:nvSpPr>
              <p:cNvPr id="294" name=""/>
              <p:cNvSpPr/>
              <p:nvPr/>
            </p:nvSpPr>
            <p:spPr>
              <a:xfrm>
                <a:off x="4038480" y="3124080"/>
                <a:ext cx="4724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800" spc="-1" strike="noStrike">
                    <a:solidFill>
                      <a:srgbClr val="eaeaea"/>
                    </a:solidFill>
                    <a:latin typeface="Arial Narrow"/>
                    <a:cs typeface="Traditional Arabic"/>
                  </a:rPr>
                  <a:t>تزوج من امرأة تدعى </a:t>
                </a:r>
                <a:r>
                  <a:rPr b="1" lang="ar-SA" sz="2800" spc="-1" strike="noStrike">
                    <a:solidFill>
                      <a:srgbClr val="cc0000"/>
                    </a:solidFill>
                    <a:latin typeface="Arial Narrow"/>
                    <a:cs typeface="Traditional Arabic"/>
                  </a:rPr>
                  <a:t>تاء مفتوحة</a:t>
                </a:r>
                <a:r>
                  <a:rPr b="1" lang="ar-SA" sz="2800" spc="-1" strike="noStrike">
                    <a:solidFill>
                      <a:srgbClr val="eaeaea"/>
                    </a:solidFill>
                    <a:latin typeface="Arial Narrow"/>
                    <a:ea typeface="Traditional Arabic"/>
                  </a:rPr>
                  <a:t> ( </a:t>
                </a:r>
                <a:r>
                  <a:rPr b="1" lang="ar-SA" sz="2800" spc="-1" strike="noStrike">
                    <a:solidFill>
                      <a:srgbClr val="cc0000"/>
                    </a:solidFill>
                    <a:latin typeface="Arial Narrow"/>
                    <a:cs typeface="Traditional Arabic"/>
                  </a:rPr>
                  <a:t>ت</a:t>
                </a:r>
                <a:r>
                  <a:rPr b="1" lang="ar-SA" sz="2800" spc="-1" strike="noStrike">
                    <a:solidFill>
                      <a:srgbClr val="eaeaea"/>
                    </a:solidFill>
                    <a:latin typeface="Arial Narrow"/>
                    <a:ea typeface="Traditional Arabic"/>
                  </a:rPr>
                  <a:t> )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627280" y="2590920"/>
                <a:ext cx="1576440" cy="766800"/>
              </a:xfrm>
              <a:prstGeom prst="wedgeEllipseCallout">
                <a:avLst>
                  <a:gd name="adj1" fmla="val -64703"/>
                  <a:gd name="adj2" fmla="val 44824"/>
                </a:avLst>
              </a:prstGeom>
              <a:noFill/>
              <a:ln w="9360">
                <a:solidFill>
                  <a:srgbClr val="f0ef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cc0000"/>
                    </a:solidFill>
                    <a:latin typeface="MCS FREEDOM"/>
                    <a:cs typeface="Traditional Arabic"/>
                  </a:rPr>
                  <a:t>أنا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cc0000"/>
                    </a:solidFill>
                    <a:latin typeface="MCS FREEDOM"/>
                    <a:ea typeface="Traditional Arabic"/>
                  </a:rPr>
                  <a:t> </a:t>
                </a:r>
                <a:r>
                  <a:rPr b="1" lang="ar-SA" sz="1800" spc="-1" strike="noStrike">
                    <a:solidFill>
                      <a:srgbClr val="cc0000"/>
                    </a:solidFill>
                    <a:latin typeface="MCS FREEDOM"/>
                    <a:cs typeface="Traditional Arabic"/>
                  </a:rPr>
                  <a:t>تاء مفتوحة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1403280" y="3048120"/>
                <a:ext cx="990360" cy="1675800"/>
                <a:chOff x="1403280" y="3048120"/>
                <a:chExt cx="990360" cy="167580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1403280" y="3077640"/>
                  <a:ext cx="990360" cy="623520"/>
                  <a:chOff x="1403280" y="3077640"/>
                  <a:chExt cx="990360" cy="623520"/>
                </a:xfrm>
              </p:grpSpPr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1403280" y="3080880"/>
                    <a:ext cx="524160" cy="620280"/>
                    <a:chOff x="1403280" y="3080880"/>
                    <a:chExt cx="524160" cy="62028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1519560" y="3080880"/>
                      <a:ext cx="349560" cy="59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2" h="2070">
                          <a:moveTo>
                            <a:pt x="1122" y="450"/>
                          </a:moveTo>
                          <a:cubicBezTo>
                            <a:pt x="935" y="225"/>
                            <a:pt x="748" y="0"/>
                            <a:pt x="561" y="270"/>
                          </a:cubicBezTo>
                          <a:cubicBezTo>
                            <a:pt x="374" y="540"/>
                            <a:pt x="93" y="1770"/>
                            <a:pt x="0" y="207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cc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1461600" y="3080880"/>
                      <a:ext cx="349560" cy="59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2" h="2070">
                          <a:moveTo>
                            <a:pt x="1122" y="450"/>
                          </a:moveTo>
                          <a:cubicBezTo>
                            <a:pt x="935" y="225"/>
                            <a:pt x="748" y="0"/>
                            <a:pt x="561" y="270"/>
                          </a:cubicBezTo>
                          <a:cubicBezTo>
                            <a:pt x="374" y="540"/>
                            <a:pt x="93" y="1770"/>
                            <a:pt x="0" y="207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cc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1577880" y="3080880"/>
                      <a:ext cx="349560" cy="59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2" h="2070">
                          <a:moveTo>
                            <a:pt x="1122" y="450"/>
                          </a:moveTo>
                          <a:cubicBezTo>
                            <a:pt x="935" y="225"/>
                            <a:pt x="748" y="0"/>
                            <a:pt x="561" y="270"/>
                          </a:cubicBezTo>
                          <a:cubicBezTo>
                            <a:pt x="374" y="540"/>
                            <a:pt x="93" y="1770"/>
                            <a:pt x="0" y="207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cc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1403280" y="3106440"/>
                      <a:ext cx="349560" cy="59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2" h="2070">
                          <a:moveTo>
                            <a:pt x="1122" y="450"/>
                          </a:moveTo>
                          <a:cubicBezTo>
                            <a:pt x="935" y="225"/>
                            <a:pt x="748" y="0"/>
                            <a:pt x="561" y="270"/>
                          </a:cubicBezTo>
                          <a:cubicBezTo>
                            <a:pt x="374" y="540"/>
                            <a:pt x="93" y="1770"/>
                            <a:pt x="0" y="207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cc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1869480" y="3077640"/>
                    <a:ext cx="524160" cy="620280"/>
                    <a:chOff x="1869480" y="3077640"/>
                    <a:chExt cx="524160" cy="62028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 flipH="1">
                      <a:off x="1927440" y="3077640"/>
                      <a:ext cx="349560" cy="59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2" h="2070">
                          <a:moveTo>
                            <a:pt x="1122" y="450"/>
                          </a:moveTo>
                          <a:cubicBezTo>
                            <a:pt x="935" y="225"/>
                            <a:pt x="748" y="0"/>
                            <a:pt x="561" y="270"/>
                          </a:cubicBezTo>
                          <a:cubicBezTo>
                            <a:pt x="374" y="540"/>
                            <a:pt x="93" y="1770"/>
                            <a:pt x="0" y="207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cc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flipH="1">
                      <a:off x="1985400" y="3077640"/>
                      <a:ext cx="349560" cy="59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2" h="2070">
                          <a:moveTo>
                            <a:pt x="1122" y="450"/>
                          </a:moveTo>
                          <a:cubicBezTo>
                            <a:pt x="935" y="225"/>
                            <a:pt x="748" y="0"/>
                            <a:pt x="561" y="270"/>
                          </a:cubicBezTo>
                          <a:cubicBezTo>
                            <a:pt x="374" y="540"/>
                            <a:pt x="93" y="1770"/>
                            <a:pt x="0" y="207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cc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>
                      <a:off x="1869120" y="3077640"/>
                      <a:ext cx="349560" cy="59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2" h="2070">
                          <a:moveTo>
                            <a:pt x="1122" y="450"/>
                          </a:moveTo>
                          <a:cubicBezTo>
                            <a:pt x="935" y="225"/>
                            <a:pt x="748" y="0"/>
                            <a:pt x="561" y="270"/>
                          </a:cubicBezTo>
                          <a:cubicBezTo>
                            <a:pt x="374" y="540"/>
                            <a:pt x="93" y="1770"/>
                            <a:pt x="0" y="207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cc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 flipH="1">
                      <a:off x="2043720" y="3103200"/>
                      <a:ext cx="349560" cy="59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2" h="2070">
                          <a:moveTo>
                            <a:pt x="1122" y="450"/>
                          </a:moveTo>
                          <a:cubicBezTo>
                            <a:pt x="935" y="225"/>
                            <a:pt x="748" y="0"/>
                            <a:pt x="561" y="270"/>
                          </a:cubicBezTo>
                          <a:cubicBezTo>
                            <a:pt x="374" y="540"/>
                            <a:pt x="93" y="1770"/>
                            <a:pt x="0" y="207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cc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1674000" y="3048120"/>
                  <a:ext cx="442800" cy="103320"/>
                  <a:chOff x="1674000" y="3048120"/>
                  <a:chExt cx="442800" cy="10332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1674000" y="3048120"/>
                    <a:ext cx="227520" cy="103320"/>
                  </a:xfrm>
                  <a:prstGeom prst="diamond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1889280" y="3048120"/>
                    <a:ext cx="227520" cy="103320"/>
                  </a:xfrm>
                  <a:prstGeom prst="diamond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1577520" y="3210120"/>
                  <a:ext cx="641160" cy="1513800"/>
                  <a:chOff x="1577520" y="3210120"/>
                  <a:chExt cx="641160" cy="1513800"/>
                </a:xfrm>
              </p:grpSpPr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1577520" y="3210120"/>
                    <a:ext cx="641160" cy="1513800"/>
                    <a:chOff x="1577520" y="3210120"/>
                    <a:chExt cx="641160" cy="151380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1897560" y="3623400"/>
                      <a:ext cx="0" cy="87876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1664280" y="3210120"/>
                      <a:ext cx="466200" cy="413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5" name=""/>
                    <p:cNvGrpSpPr/>
                    <p:nvPr/>
                  </p:nvGrpSpPr>
                  <p:grpSpPr>
                    <a:xfrm>
                      <a:off x="1577520" y="3830400"/>
                      <a:ext cx="641160" cy="258480"/>
                      <a:chOff x="1577520" y="3830400"/>
                      <a:chExt cx="641160" cy="258480"/>
                    </a:xfrm>
                  </p:grpSpPr>
                  <p:sp>
                    <p:nvSpPr>
                      <p:cNvPr id="316" name=""/>
                      <p:cNvSpPr/>
                      <p:nvPr/>
                    </p:nvSpPr>
                    <p:spPr>
                      <a:xfrm>
                        <a:off x="1895040" y="3830400"/>
                        <a:ext cx="323640" cy="25848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" name=""/>
                      <p:cNvSpPr/>
                      <p:nvPr/>
                    </p:nvSpPr>
                    <p:spPr>
                      <a:xfrm flipH="1">
                        <a:off x="1577520" y="3830400"/>
                        <a:ext cx="323640" cy="25848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8" name=""/>
                    <p:cNvGrpSpPr/>
                    <p:nvPr/>
                  </p:nvGrpSpPr>
                  <p:grpSpPr>
                    <a:xfrm>
                      <a:off x="1577520" y="4465440"/>
                      <a:ext cx="641160" cy="258480"/>
                      <a:chOff x="1577520" y="4465440"/>
                      <a:chExt cx="641160" cy="258480"/>
                    </a:xfrm>
                  </p:grpSpPr>
                  <p:sp>
                    <p:nvSpPr>
                      <p:cNvPr id="319" name=""/>
                      <p:cNvSpPr/>
                      <p:nvPr/>
                    </p:nvSpPr>
                    <p:spPr>
                      <a:xfrm>
                        <a:off x="1895040" y="4465440"/>
                        <a:ext cx="323640" cy="25848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" name=""/>
                      <p:cNvSpPr/>
                      <p:nvPr/>
                    </p:nvSpPr>
                    <p:spPr>
                      <a:xfrm flipH="1">
                        <a:off x="1577520" y="4465440"/>
                        <a:ext cx="323640" cy="25848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1943640" y="3364920"/>
                    <a:ext cx="116280" cy="51480"/>
                    <a:chOff x="1943640" y="3364920"/>
                    <a:chExt cx="116280" cy="5148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1973520" y="3364920"/>
                      <a:ext cx="58320" cy="514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1943640" y="3364920"/>
                      <a:ext cx="1162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1752480" y="3364920"/>
                    <a:ext cx="116280" cy="51480"/>
                    <a:chOff x="1752480" y="3364920"/>
                    <a:chExt cx="116280" cy="5148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1782360" y="3364920"/>
                      <a:ext cx="58320" cy="514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1752480" y="3364920"/>
                      <a:ext cx="1162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7" name=""/>
                  <p:cNvSpPr/>
                  <p:nvPr/>
                </p:nvSpPr>
                <p:spPr>
                  <a:xfrm rot="7694400">
                    <a:off x="1808640" y="3342240"/>
                    <a:ext cx="21420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924" y="59"/>
                        </a:moveTo>
                        <a:arcTo wR="10800" hR="10800" stAng="-5041512" swAng="59359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924" y="59"/>
                        </a:moveTo>
                        <a:arcTo wR="10800" hR="10800" stAng="-5041512" swAng="5935954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328" name="" descr=""/>
            <p:cNvPicPr/>
            <p:nvPr/>
          </p:nvPicPr>
          <p:blipFill>
            <a:blip r:embed="rId2"/>
            <a:stretch/>
          </p:blipFill>
          <p:spPr>
            <a:xfrm>
              <a:off x="8775720" y="325764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9" name=""/>
          <p:cNvGrpSpPr/>
          <p:nvPr/>
        </p:nvGrpSpPr>
        <p:grpSpPr>
          <a:xfrm>
            <a:off x="1619280" y="4759200"/>
            <a:ext cx="2448000" cy="1447200"/>
            <a:chOff x="1619280" y="4759200"/>
            <a:chExt cx="2448000" cy="1447200"/>
          </a:xfrm>
        </p:grpSpPr>
        <p:sp>
          <p:nvSpPr>
            <p:cNvPr id="330" name=""/>
            <p:cNvSpPr/>
            <p:nvPr/>
          </p:nvSpPr>
          <p:spPr>
            <a:xfrm>
              <a:off x="2411280" y="4759200"/>
              <a:ext cx="1656000" cy="757440"/>
            </a:xfrm>
            <a:prstGeom prst="wedgeEllipseCallout">
              <a:avLst>
                <a:gd name="adj1" fmla="val -61699"/>
                <a:gd name="adj2" fmla="val 32601"/>
              </a:avLst>
            </a:prstGeom>
            <a:noFill/>
            <a:ln w="936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cab40"/>
                  </a:solidFill>
                  <a:latin typeface="MCS FREEDOM"/>
                  <a:cs typeface="Traditional Arabic"/>
                </a:rPr>
                <a:t>أنا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cab40"/>
                  </a:solidFill>
                  <a:latin typeface="MCS FREEDOM"/>
                  <a:ea typeface="Traditional Arabic"/>
                </a:rPr>
                <a:t> </a:t>
              </a:r>
              <a:r>
                <a:rPr b="1" lang="ar-SA" sz="1800" spc="-1" strike="noStrike">
                  <a:solidFill>
                    <a:srgbClr val="fcab40"/>
                  </a:solidFill>
                  <a:latin typeface="MCS FREEDOM"/>
                  <a:cs typeface="Traditional Arabic"/>
                </a:rPr>
                <a:t>تاء مربوطة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1619280" y="5140440"/>
              <a:ext cx="533160" cy="1065960"/>
              <a:chOff x="1619280" y="5140440"/>
              <a:chExt cx="533160" cy="106596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1619280" y="5192640"/>
                <a:ext cx="533160" cy="294840"/>
                <a:chOff x="1619280" y="5192640"/>
                <a:chExt cx="533160" cy="294840"/>
              </a:xfrm>
            </p:grpSpPr>
            <p:grpSp>
              <p:nvGrpSpPr>
                <p:cNvPr id="333" name=""/>
                <p:cNvGrpSpPr/>
                <p:nvPr/>
              </p:nvGrpSpPr>
              <p:grpSpPr>
                <a:xfrm>
                  <a:off x="1619280" y="5194080"/>
                  <a:ext cx="282240" cy="293400"/>
                  <a:chOff x="1619280" y="5194080"/>
                  <a:chExt cx="282240" cy="29340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1681920" y="5194080"/>
                    <a:ext cx="18828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1908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1650600" y="5194080"/>
                    <a:ext cx="18828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1908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1713240" y="5194080"/>
                    <a:ext cx="18828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1908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1619280" y="5206320"/>
                    <a:ext cx="18828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1908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1870200" y="5192640"/>
                  <a:ext cx="282240" cy="293400"/>
                  <a:chOff x="1870200" y="5192640"/>
                  <a:chExt cx="282240" cy="29340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>
                    <a:off x="1901160" y="5192640"/>
                    <a:ext cx="18828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1908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>
                    <a:off x="1932480" y="5192640"/>
                    <a:ext cx="18828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1908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>
                    <a:off x="1869840" y="5192640"/>
                    <a:ext cx="18828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1908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flipH="1">
                    <a:off x="1963800" y="5204880"/>
                    <a:ext cx="18828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1908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3" name=""/>
              <p:cNvGrpSpPr/>
              <p:nvPr/>
            </p:nvGrpSpPr>
            <p:grpSpPr>
              <a:xfrm>
                <a:off x="1703160" y="5262480"/>
                <a:ext cx="373320" cy="943920"/>
                <a:chOff x="1703160" y="5262480"/>
                <a:chExt cx="373320" cy="9439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889640" y="5520240"/>
                  <a:ext cx="0" cy="548280"/>
                </a:xfrm>
                <a:prstGeom prst="line">
                  <a:avLst/>
                </a:prstGeom>
                <a:ln w="2844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753920" y="5262480"/>
                  <a:ext cx="271440" cy="2577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1703160" y="5649480"/>
                  <a:ext cx="373320" cy="160920"/>
                  <a:chOff x="1703160" y="5649480"/>
                  <a:chExt cx="373320" cy="16092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1888200" y="5649480"/>
                    <a:ext cx="188280" cy="160920"/>
                  </a:xfrm>
                  <a:prstGeom prst="line">
                    <a:avLst/>
                  </a:prstGeom>
                  <a:ln w="2844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>
                    <a:off x="1703160" y="5649480"/>
                    <a:ext cx="188280" cy="160920"/>
                  </a:xfrm>
                  <a:prstGeom prst="line">
                    <a:avLst/>
                  </a:prstGeom>
                  <a:ln w="2844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1703160" y="6045480"/>
                  <a:ext cx="373320" cy="160920"/>
                  <a:chOff x="1703160" y="6045480"/>
                  <a:chExt cx="373320" cy="1609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1888200" y="6045480"/>
                    <a:ext cx="188280" cy="160920"/>
                  </a:xfrm>
                  <a:prstGeom prst="line">
                    <a:avLst/>
                  </a:prstGeom>
                  <a:ln w="2844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>
                    <a:off x="1703160" y="6045480"/>
                    <a:ext cx="188280" cy="160920"/>
                  </a:xfrm>
                  <a:prstGeom prst="line">
                    <a:avLst/>
                  </a:prstGeom>
                  <a:ln w="2844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2" name=""/>
              <p:cNvSpPr/>
              <p:nvPr/>
            </p:nvSpPr>
            <p:spPr>
              <a:xfrm>
                <a:off x="1820880" y="5348160"/>
                <a:ext cx="33480" cy="31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22760" y="5348160"/>
                <a:ext cx="34920" cy="31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7694400">
                <a:off x="1829160" y="5338080"/>
                <a:ext cx="135720" cy="13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924" y="59"/>
                    </a:moveTo>
                    <a:arcTo wR="10800" hR="10800" stAng="-5041512" swAng="59359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924" y="59"/>
                    </a:moveTo>
                    <a:arcTo wR="10800" hR="10800" stAng="-5041512" swAng="5935954"/>
                  </a:path>
                </a:pathLst>
              </a:custGeom>
              <a:noFill/>
              <a:ln w="284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55" name=""/>
              <p:cNvGrpSpPr/>
              <p:nvPr/>
            </p:nvGrpSpPr>
            <p:grpSpPr>
              <a:xfrm>
                <a:off x="1749600" y="5140440"/>
                <a:ext cx="266760" cy="91800"/>
                <a:chOff x="1749600" y="5140440"/>
                <a:chExt cx="266760" cy="9180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1749600" y="5140440"/>
                  <a:ext cx="137160" cy="91800"/>
                </a:xfrm>
                <a:prstGeom prst="diamond">
                  <a:avLst/>
                </a:prstGeom>
                <a:solidFill>
                  <a:srgbClr val="000000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79200" y="5140440"/>
                  <a:ext cx="137160" cy="91800"/>
                </a:xfrm>
                <a:prstGeom prst="diamond">
                  <a:avLst/>
                </a:prstGeom>
                <a:solidFill>
                  <a:srgbClr val="000000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8" name=""/>
          <p:cNvGrpSpPr/>
          <p:nvPr/>
        </p:nvGrpSpPr>
        <p:grpSpPr>
          <a:xfrm>
            <a:off x="2819520" y="4226040"/>
            <a:ext cx="6134040" cy="3746520"/>
            <a:chOff x="2819520" y="4226040"/>
            <a:chExt cx="6134040" cy="3746520"/>
          </a:xfrm>
        </p:grpSpPr>
        <p:sp>
          <p:nvSpPr>
            <p:cNvPr id="359" name=""/>
            <p:cNvSpPr/>
            <p:nvPr/>
          </p:nvSpPr>
          <p:spPr>
            <a:xfrm>
              <a:off x="2819520" y="4226040"/>
              <a:ext cx="5943600" cy="37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eaeaea"/>
                  </a:solidFill>
                  <a:latin typeface="Arial Narrow"/>
                  <a:cs typeface="Traditional Arabic"/>
                </a:rPr>
                <a:t>وأنجبا مولودة جميلة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eaeaea"/>
                  </a:solidFill>
                  <a:latin typeface="Arial Narrow"/>
                  <a:ea typeface="Traditional Arabic"/>
                </a:rPr>
                <a:t> تشبه أباها </a:t>
              </a:r>
              <a:r>
                <a:rPr b="1" lang="ar-SA" sz="2800" spc="-1" strike="noStrike">
                  <a:solidFill>
                    <a:srgbClr val="0066ff"/>
                  </a:solidFill>
                  <a:latin typeface="Arial Narrow"/>
                  <a:cs typeface="Traditional Arabic"/>
                </a:rPr>
                <a:t>الهاء </a:t>
              </a:r>
              <a:r>
                <a:rPr b="1" lang="ar-SA" sz="2800" spc="-1" strike="noStrike">
                  <a:solidFill>
                    <a:srgbClr val="eaeaea"/>
                  </a:solidFill>
                  <a:latin typeface="Arial Narrow"/>
                  <a:ea typeface="Traditional Arabic"/>
                </a:rPr>
                <a:t>(</a:t>
              </a:r>
              <a:r>
                <a:rPr b="1" lang="ar-SA" sz="2800" spc="-1" strike="noStrike">
                  <a:solidFill>
                    <a:srgbClr val="0066ff"/>
                  </a:solidFill>
                  <a:latin typeface="Arial Narrow"/>
                  <a:ea typeface="Traditional Arabic"/>
                </a:rPr>
                <a:t> ه  </a:t>
              </a:r>
              <a:r>
                <a:rPr b="1" lang="ar-SA" sz="2800" spc="-1" strike="noStrike">
                  <a:solidFill>
                    <a:srgbClr val="eaeaea"/>
                  </a:solidFill>
                  <a:latin typeface="Arial Narrow"/>
                  <a:cs typeface="Traditional Arabic"/>
                </a:rPr>
                <a:t>،</a:t>
              </a:r>
              <a:r>
                <a:rPr b="1" lang="ar-SA" sz="2800" spc="-1" strike="noStrike">
                  <a:solidFill>
                    <a:srgbClr val="0066ff"/>
                  </a:solidFill>
                  <a:latin typeface="Arial Narrow"/>
                  <a:ea typeface="Traditional Arabic"/>
                </a:rPr>
                <a:t> ـه </a:t>
              </a:r>
              <a:r>
                <a:rPr b="1" lang="ar-SA" sz="2800" spc="-1" strike="noStrike">
                  <a:solidFill>
                    <a:srgbClr val="eaeaea"/>
                  </a:solidFill>
                  <a:latin typeface="Arial Narrow"/>
                  <a:ea typeface="Traditional Arabic"/>
                </a:rPr>
                <a:t>)</a:t>
              </a:r>
              <a:r>
                <a:rPr b="1" lang="ar-SA" sz="2800" spc="-1" strike="noStrike">
                  <a:solidFill>
                    <a:srgbClr val="0066ff"/>
                  </a:solidFill>
                  <a:latin typeface="Arial Narrow"/>
                  <a:ea typeface="Traditional Arabic"/>
                </a:rPr>
                <a:t> </a:t>
              </a:r>
              <a:r>
                <a:rPr b="1" lang="ar-SA" sz="2800" spc="-1" strike="noStrike">
                  <a:solidFill>
                    <a:srgbClr val="eaeaea"/>
                  </a:solidFill>
                  <a:latin typeface="Arial Narrow"/>
                  <a:cs typeface="Traditional Arabic"/>
                </a:rPr>
                <a:t>في عيونه 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eaeaea"/>
                  </a:solidFill>
                  <a:latin typeface="Arial Narrow"/>
                  <a:cs typeface="Traditional Arabic"/>
                </a:rPr>
                <a:t>وتشبه أمها </a:t>
              </a:r>
              <a:r>
                <a:rPr b="1" lang="ar-SA" sz="2800" spc="-1" strike="noStrike">
                  <a:solidFill>
                    <a:srgbClr val="cc0000"/>
                  </a:solidFill>
                  <a:latin typeface="Arial Narrow"/>
                  <a:cs typeface="Traditional Arabic"/>
                </a:rPr>
                <a:t>التاء المفتوحة  </a:t>
              </a:r>
              <a:r>
                <a:rPr b="1" lang="ar-SA" sz="2800" spc="-1" strike="noStrike">
                  <a:solidFill>
                    <a:srgbClr val="eaeaea"/>
                  </a:solidFill>
                  <a:latin typeface="Arial Narrow"/>
                  <a:ea typeface="Traditional Arabic"/>
                </a:rPr>
                <a:t>(</a:t>
              </a:r>
              <a:r>
                <a:rPr b="1" lang="ar-SA" sz="2800" spc="-1" strike="noStrike">
                  <a:solidFill>
                    <a:srgbClr val="cc0000"/>
                  </a:solidFill>
                  <a:latin typeface="Arial Narrow"/>
                  <a:ea typeface="Traditional Arabic"/>
                </a:rPr>
                <a:t> ت </a:t>
              </a:r>
              <a:r>
                <a:rPr b="1" lang="ar-SA" sz="2800" spc="-1" strike="noStrike">
                  <a:solidFill>
                    <a:srgbClr val="eaeaea"/>
                  </a:solidFill>
                  <a:latin typeface="Arial Narrow"/>
                  <a:cs typeface="Traditional Arabic"/>
                </a:rPr>
                <a:t>،</a:t>
              </a:r>
              <a:r>
                <a:rPr b="1" lang="ar-SA" sz="2800" spc="-1" strike="noStrike">
                  <a:solidFill>
                    <a:srgbClr val="cc0000"/>
                  </a:solidFill>
                  <a:latin typeface="Arial Narrow"/>
                  <a:ea typeface="Traditional Arabic"/>
                </a:rPr>
                <a:t> ـت </a:t>
              </a:r>
              <a:r>
                <a:rPr b="1" lang="ar-SA" sz="2800" spc="-1" strike="noStrike">
                  <a:solidFill>
                    <a:srgbClr val="eaeaea"/>
                  </a:solidFill>
                  <a:latin typeface="Arial Narrow"/>
                  <a:ea typeface="Traditional Arabic"/>
                </a:rPr>
                <a:t>)</a:t>
              </a:r>
              <a:r>
                <a:rPr b="1" lang="ar-SA" sz="2800" spc="-1" strike="noStrike">
                  <a:solidFill>
                    <a:srgbClr val="cc0000"/>
                  </a:solidFill>
                  <a:latin typeface="Arial Narrow"/>
                  <a:ea typeface="Traditional Arabic"/>
                </a:rPr>
                <a:t> </a:t>
              </a:r>
              <a:r>
                <a:rPr b="1" lang="ar-SA" sz="2800" spc="-1" strike="noStrike">
                  <a:solidFill>
                    <a:srgbClr val="eaeaea"/>
                  </a:solidFill>
                  <a:latin typeface="Arial Narrow"/>
                  <a:cs typeface="Traditional Arabic"/>
                </a:rPr>
                <a:t>في شعرها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eaeaea"/>
                  </a:solidFill>
                  <a:latin typeface="Arial Narrow"/>
                  <a:cs typeface="Traditional Arabic"/>
                </a:rPr>
                <a:t>واتفقا على تسميتها بـ  </a:t>
              </a:r>
              <a:r>
                <a:rPr b="1" lang="ar-SA" sz="2800" spc="-1" strike="noStrike">
                  <a:solidFill>
                    <a:srgbClr val="808000"/>
                  </a:solidFill>
                  <a:latin typeface="Arial Narrow"/>
                  <a:cs typeface="Traditional Arabic"/>
                </a:rPr>
                <a:t>تاء مربوطة</a:t>
              </a:r>
              <a:r>
                <a:rPr b="1" lang="ar-SA" sz="2800" spc="-1" strike="noStrike">
                  <a:solidFill>
                    <a:srgbClr val="eaeaea"/>
                  </a:solidFill>
                  <a:latin typeface="Arial Narrow"/>
                  <a:ea typeface="Traditional Arabic"/>
                </a:rPr>
                <a:t>  (  </a:t>
              </a:r>
              <a:r>
                <a:rPr b="1" lang="ar-SA" sz="2800" spc="-1" strike="noStrike">
                  <a:solidFill>
                    <a:srgbClr val="808000"/>
                  </a:solidFill>
                  <a:latin typeface="Arial Narrow"/>
                  <a:cs typeface="Traditional Arabic"/>
                </a:rPr>
                <a:t>ة </a:t>
              </a:r>
              <a:r>
                <a:rPr b="1" lang="ar-SA" sz="2800" spc="-1" strike="noStrike">
                  <a:solidFill>
                    <a:srgbClr val="eaeaea"/>
                  </a:solidFill>
                  <a:latin typeface="Arial Narrow"/>
                  <a:cs typeface="Traditional Arabic"/>
                </a:rPr>
                <a:t>،</a:t>
              </a:r>
              <a:r>
                <a:rPr b="1" lang="ar-SA" sz="2800" spc="-1" strike="noStrike">
                  <a:solidFill>
                    <a:srgbClr val="808000"/>
                  </a:solidFill>
                  <a:latin typeface="Arial Narrow"/>
                  <a:ea typeface="Traditional Arabic"/>
                </a:rPr>
                <a:t> ـة</a:t>
              </a:r>
              <a:r>
                <a:rPr b="1" lang="ar-SA" sz="2800" spc="-1" strike="noStrike">
                  <a:solidFill>
                    <a:srgbClr val="eaeaea"/>
                  </a:solidFill>
                  <a:latin typeface="Arial Narrow"/>
                  <a:ea typeface="Traditional Arabic"/>
                </a:rPr>
                <a:t> )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60" name="" descr=""/>
            <p:cNvPicPr/>
            <p:nvPr/>
          </p:nvPicPr>
          <p:blipFill>
            <a:blip r:embed="rId3"/>
            <a:stretch/>
          </p:blipFill>
          <p:spPr>
            <a:xfrm>
              <a:off x="8782200" y="437832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191120" y="2286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 Narrow"/>
                <a:cs typeface="Traditional Arabic"/>
              </a:rPr>
              <a:t>وكما نعلم أن الطفل  يأخذ ملامحه من أمه وأبي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419720" y="2122560"/>
            <a:ext cx="1017360" cy="2631960"/>
            <a:chOff x="4419720" y="2122560"/>
            <a:chExt cx="1017360" cy="2631960"/>
          </a:xfrm>
        </p:grpSpPr>
        <p:grpSp>
          <p:nvGrpSpPr>
            <p:cNvPr id="363" name=""/>
            <p:cNvGrpSpPr/>
            <p:nvPr/>
          </p:nvGrpSpPr>
          <p:grpSpPr>
            <a:xfrm>
              <a:off x="4556160" y="3057480"/>
              <a:ext cx="847440" cy="1697040"/>
              <a:chOff x="4556160" y="3057480"/>
              <a:chExt cx="847440" cy="169704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4556160" y="3139920"/>
                <a:ext cx="847440" cy="471600"/>
                <a:chOff x="4556160" y="3139920"/>
                <a:chExt cx="847440" cy="471600"/>
              </a:xfrm>
            </p:grpSpPr>
            <p:grpSp>
              <p:nvGrpSpPr>
                <p:cNvPr id="365" name=""/>
                <p:cNvGrpSpPr/>
                <p:nvPr/>
              </p:nvGrpSpPr>
              <p:grpSpPr>
                <a:xfrm>
                  <a:off x="4556160" y="3142440"/>
                  <a:ext cx="448560" cy="469080"/>
                  <a:chOff x="4556160" y="3142440"/>
                  <a:chExt cx="448560" cy="46908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4655880" y="3142440"/>
                    <a:ext cx="299160" cy="44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4605840" y="3142440"/>
                    <a:ext cx="299160" cy="44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4705560" y="3142440"/>
                    <a:ext cx="299160" cy="44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4556160" y="3161880"/>
                    <a:ext cx="299160" cy="44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4955040" y="3139920"/>
                  <a:ext cx="448560" cy="469080"/>
                  <a:chOff x="4955040" y="3139920"/>
                  <a:chExt cx="448560" cy="46908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>
                    <a:off x="5004360" y="3139920"/>
                    <a:ext cx="299160" cy="44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>
                    <a:off x="5054400" y="3139920"/>
                    <a:ext cx="299160" cy="44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>
                    <a:off x="4954680" y="3139920"/>
                    <a:ext cx="299160" cy="44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>
                    <a:off x="5104080" y="3159360"/>
                    <a:ext cx="299160" cy="44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5" name=""/>
              <p:cNvGrpSpPr/>
              <p:nvPr/>
            </p:nvGrpSpPr>
            <p:grpSpPr>
              <a:xfrm>
                <a:off x="4689360" y="3252600"/>
                <a:ext cx="594000" cy="1501920"/>
                <a:chOff x="4689360" y="3252600"/>
                <a:chExt cx="594000" cy="15019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4985640" y="3662640"/>
                  <a:ext cx="0" cy="871920"/>
                </a:xfrm>
                <a:prstGeom prst="line">
                  <a:avLst/>
                </a:prstGeom>
                <a:ln w="3816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769640" y="3252600"/>
                  <a:ext cx="431640" cy="410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8" name=""/>
                <p:cNvGrpSpPr/>
                <p:nvPr/>
              </p:nvGrpSpPr>
              <p:grpSpPr>
                <a:xfrm>
                  <a:off x="4689360" y="3867840"/>
                  <a:ext cx="594000" cy="256320"/>
                  <a:chOff x="4689360" y="3867840"/>
                  <a:chExt cx="594000" cy="25632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4983480" y="3867840"/>
                    <a:ext cx="299880" cy="256320"/>
                  </a:xfrm>
                  <a:prstGeom prst="line">
                    <a:avLst/>
                  </a:prstGeom>
                  <a:ln w="3816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H="1">
                    <a:off x="4689360" y="3867840"/>
                    <a:ext cx="299880" cy="256320"/>
                  </a:xfrm>
                  <a:prstGeom prst="line">
                    <a:avLst/>
                  </a:prstGeom>
                  <a:ln w="3816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4689360" y="4498200"/>
                  <a:ext cx="594000" cy="256320"/>
                  <a:chOff x="4689360" y="4498200"/>
                  <a:chExt cx="594000" cy="25632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4983480" y="4498200"/>
                    <a:ext cx="299880" cy="256320"/>
                  </a:xfrm>
                  <a:prstGeom prst="line">
                    <a:avLst/>
                  </a:prstGeom>
                  <a:ln w="3816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flipH="1">
                    <a:off x="4689360" y="4498200"/>
                    <a:ext cx="299880" cy="256320"/>
                  </a:xfrm>
                  <a:prstGeom prst="line">
                    <a:avLst/>
                  </a:prstGeom>
                  <a:ln w="3816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4" name=""/>
              <p:cNvSpPr/>
              <p:nvPr/>
            </p:nvSpPr>
            <p:spPr>
              <a:xfrm>
                <a:off x="4876920" y="3387600"/>
                <a:ext cx="54000" cy="50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038920" y="3387600"/>
                <a:ext cx="54000" cy="50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7694400">
                <a:off x="4891320" y="3372840"/>
                <a:ext cx="215640" cy="20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924" y="59"/>
                    </a:moveTo>
                    <a:arcTo wR="10800" hR="10800" stAng="-5041512" swAng="59359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924" y="59"/>
                    </a:moveTo>
                    <a:arcTo wR="10800" hR="10800" stAng="-5041512" swAng="5935954"/>
                  </a:path>
                </a:pathLst>
              </a:custGeom>
              <a:noFill/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4762800" y="3057480"/>
                <a:ext cx="425520" cy="144360"/>
                <a:chOff x="4762800" y="3057480"/>
                <a:chExt cx="425520" cy="14436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4762800" y="3057480"/>
                  <a:ext cx="218520" cy="14436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969800" y="3057480"/>
                  <a:ext cx="218520" cy="14436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0" name=""/>
            <p:cNvSpPr txBox="1"/>
            <p:nvPr/>
          </p:nvSpPr>
          <p:spPr>
            <a:xfrm>
              <a:off x="4419720" y="2122560"/>
              <a:ext cx="1017360" cy="80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9360">
                    <a:solidFill>
                      <a:srgbClr val="eaeaea"/>
                    </a:solidFill>
                    <a:miter/>
                  </a:ln>
                  <a:solidFill>
                    <a:srgbClr val="eaeaea"/>
                  </a:solidFill>
                  <a:latin typeface="Traditional Arabic"/>
                </a:rPr>
                <a:t>المولود</a:t>
              </a:r>
              <a:endParaRPr b="1" lang="en-US" sz="24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eaeaea"/>
                </a:solidFill>
                <a:latin typeface="Traditional Arabic"/>
                <a:ea typeface="Traditional Arabic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eaeaea"/>
                    </a:solidFill>
                    <a:miter/>
                  </a:ln>
                  <a:solidFill>
                    <a:srgbClr val="eaeaea"/>
                  </a:solidFill>
                  <a:latin typeface="Traditional Arabic"/>
                </a:rPr>
                <a:t>( </a:t>
              </a:r>
              <a:r>
                <a:rPr b="0" lang="hi-IN" sz="2400" spc="1" strike="noStrike">
                  <a:ln w="9360">
                    <a:solidFill>
                      <a:srgbClr val="eaeaea"/>
                    </a:solidFill>
                    <a:miter/>
                  </a:ln>
                  <a:solidFill>
                    <a:srgbClr val="eaeaea"/>
                  </a:solidFill>
                  <a:latin typeface="Traditional Arabic"/>
                </a:rPr>
                <a:t>تاء مربوطة</a:t>
              </a:r>
              <a:r>
                <a:rPr b="1" lang="en-US" sz="2400" spc="1" strike="noStrike">
                  <a:ln w="9360">
                    <a:solidFill>
                      <a:srgbClr val="eaeaea"/>
                    </a:solidFill>
                    <a:miter/>
                  </a:ln>
                  <a:solidFill>
                    <a:srgbClr val="eaeaea"/>
                  </a:solidFill>
                  <a:latin typeface="Traditional Arabic"/>
                </a:rPr>
                <a:t> </a:t>
              </a:r>
              <a:r>
                <a:rPr b="1" lang="en-US" sz="2400" spc="1" strike="noStrike">
                  <a:ln w="9360">
                    <a:solidFill>
                      <a:srgbClr val="eaeaea"/>
                    </a:solidFill>
                    <a:miter/>
                  </a:ln>
                  <a:solidFill>
                    <a:srgbClr val="eaeaea"/>
                  </a:solidFill>
                  <a:latin typeface="Traditional Arabic"/>
                </a:rPr>
                <a:t>)</a:t>
              </a:r>
              <a:endParaRPr b="1" lang="en-US" sz="24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eaeaea"/>
                </a:solidFill>
                <a:latin typeface="Traditional Arabic"/>
                <a:ea typeface="Traditional Arabic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5410080" y="3726000"/>
            <a:ext cx="838440" cy="914400"/>
          </a:xfrm>
          <a:prstGeom prst="leftArrowCallout">
            <a:avLst>
              <a:gd name="adj1" fmla="val 14997"/>
              <a:gd name="adj2" fmla="val 31430"/>
              <a:gd name="adj3" fmla="val 15662"/>
              <a:gd name="adj4" fmla="val 73956"/>
            </a:avLst>
          </a:prstGeom>
          <a:solidFill>
            <a:srgbClr val="ffffff"/>
          </a:solidFill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Traditional Arabic"/>
                <a:cs typeface="Traditional Arabic"/>
              </a:rPr>
              <a:t>تنطق هاء في حال السكون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733200" y="3726000"/>
            <a:ext cx="865080" cy="914400"/>
          </a:xfrm>
          <a:prstGeom prst="leftArrowCallout">
            <a:avLst>
              <a:gd name="adj1" fmla="val 14535"/>
              <a:gd name="adj2" fmla="val 30462"/>
              <a:gd name="adj3" fmla="val 15662"/>
              <a:gd name="adj4" fmla="val 73956"/>
            </a:avLst>
          </a:prstGeom>
          <a:solidFill>
            <a:srgbClr val="ffffff"/>
          </a:solidFill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تنطق تاء في حال الحركة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011240" y="1981080"/>
            <a:ext cx="7780320" cy="2695680"/>
            <a:chOff x="1011240" y="1981080"/>
            <a:chExt cx="7780320" cy="2695680"/>
          </a:xfrm>
        </p:grpSpPr>
        <p:sp>
          <p:nvSpPr>
            <p:cNvPr id="394" name=""/>
            <p:cNvSpPr txBox="1"/>
            <p:nvPr/>
          </p:nvSpPr>
          <p:spPr>
            <a:xfrm>
              <a:off x="7723080" y="2011320"/>
              <a:ext cx="10684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9360">
                    <a:solidFill>
                      <a:srgbClr val="eaeaea"/>
                    </a:solidFill>
                    <a:miter/>
                  </a:ln>
                  <a:solidFill>
                    <a:srgbClr val="eaeaea"/>
                  </a:solidFill>
                  <a:latin typeface="Traditional Arabic"/>
                </a:rPr>
                <a:t>الأب ( هاء )</a:t>
              </a:r>
              <a:endParaRPr b="1" lang="en-US" sz="24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eaeaea"/>
                </a:solidFill>
                <a:latin typeface="Traditional Arabic"/>
                <a:ea typeface="Traditional Arabic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1011240" y="2048040"/>
              <a:ext cx="1187280" cy="54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9360">
                    <a:solidFill>
                      <a:srgbClr val="eaeaea"/>
                    </a:solidFill>
                    <a:miter/>
                  </a:ln>
                  <a:solidFill>
                    <a:srgbClr val="eaeaea"/>
                  </a:solidFill>
                  <a:latin typeface="Traditional Arabic"/>
                </a:rPr>
                <a:t>الأم  ( تاء )</a:t>
              </a:r>
              <a:endParaRPr b="1" lang="en-US" sz="24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eaeaea"/>
                </a:solidFill>
                <a:latin typeface="Traditional Arabic"/>
                <a:ea typeface="Traditional Arabic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6400800" y="2011320"/>
              <a:ext cx="933480" cy="2643120"/>
              <a:chOff x="6400800" y="2011320"/>
              <a:chExt cx="933480" cy="2643120"/>
            </a:xfrm>
          </p:grpSpPr>
          <p:sp>
            <p:nvSpPr>
              <p:cNvPr id="397" name=""/>
              <p:cNvSpPr/>
              <p:nvPr/>
            </p:nvSpPr>
            <p:spPr>
              <a:xfrm flipH="1" flipV="1">
                <a:off x="6697800" y="2023920"/>
                <a:ext cx="169920" cy="87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6940800" y="2017080"/>
                <a:ext cx="85680" cy="874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7110360" y="2104920"/>
                <a:ext cx="86040" cy="856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7196400" y="2190240"/>
                <a:ext cx="83880" cy="874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7026480" y="2059920"/>
                <a:ext cx="83880" cy="874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7153560" y="2154240"/>
                <a:ext cx="8568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flipV="1">
                <a:off x="6721560" y="2011320"/>
                <a:ext cx="842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>
                <a:off x="6551640" y="2098440"/>
                <a:ext cx="84240" cy="856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flipV="1">
                <a:off x="6465960" y="2183760"/>
                <a:ext cx="85680" cy="874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6635880" y="2054160"/>
                <a:ext cx="8568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>
                <a:off x="6507360" y="2147760"/>
                <a:ext cx="8568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867720" y="2023920"/>
                <a:ext cx="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526440" y="2111040"/>
                <a:ext cx="679320" cy="695520"/>
              </a:xfrm>
              <a:prstGeom prst="ellipse">
                <a:avLst/>
              </a:prstGeom>
              <a:solidFill>
                <a:srgbClr val="eaeaea"/>
              </a:solidFill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697800" y="2371680"/>
                <a:ext cx="84240" cy="856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951600" y="2371680"/>
                <a:ext cx="84240" cy="856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7694400">
                <a:off x="6711840" y="2363400"/>
                <a:ext cx="361800" cy="326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924" y="59"/>
                    </a:moveTo>
                    <a:arcTo wR="10800" hR="10800" stAng="-5041512" swAng="59359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924" y="59"/>
                    </a:moveTo>
                    <a:arcTo wR="10800" hR="10800" stAng="-5041512" swAng="5935954"/>
                  </a:path>
                </a:pathLst>
              </a:cu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65920" y="2806560"/>
                <a:ext cx="0" cy="147492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863040" y="3152520"/>
                <a:ext cx="471240" cy="4352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6400800" y="3152520"/>
                <a:ext cx="471600" cy="4352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863040" y="4221000"/>
                <a:ext cx="471240" cy="4334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6400800" y="4221000"/>
                <a:ext cx="471600" cy="4334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370240" y="1981080"/>
              <a:ext cx="1442880" cy="2695680"/>
              <a:chOff x="2370240" y="1981080"/>
              <a:chExt cx="1442880" cy="269568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2370240" y="2028600"/>
                <a:ext cx="1442880" cy="1003320"/>
                <a:chOff x="2370240" y="2028600"/>
                <a:chExt cx="1442880" cy="100332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2370240" y="2034000"/>
                  <a:ext cx="763920" cy="997920"/>
                  <a:chOff x="2370240" y="2034000"/>
                  <a:chExt cx="763920" cy="9979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2539800" y="2034000"/>
                    <a:ext cx="509400" cy="9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454840" y="2034000"/>
                    <a:ext cx="509040" cy="9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624760" y="2034000"/>
                    <a:ext cx="509400" cy="9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370240" y="2075400"/>
                    <a:ext cx="509400" cy="9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3049200" y="2028600"/>
                  <a:ext cx="763920" cy="997920"/>
                  <a:chOff x="3049200" y="2028600"/>
                  <a:chExt cx="763920" cy="9979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>
                    <a:off x="3133800" y="2028600"/>
                    <a:ext cx="509400" cy="9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>
                    <a:off x="3219480" y="2028600"/>
                    <a:ext cx="509040" cy="9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>
                    <a:off x="3048840" y="2028600"/>
                    <a:ext cx="509400" cy="9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>
                    <a:off x="3303360" y="2070000"/>
                    <a:ext cx="509400" cy="9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070">
                        <a:moveTo>
                          <a:pt x="1122" y="450"/>
                        </a:moveTo>
                        <a:cubicBezTo>
                          <a:pt x="935" y="225"/>
                          <a:pt x="748" y="0"/>
                          <a:pt x="561" y="270"/>
                        </a:cubicBezTo>
                        <a:cubicBezTo>
                          <a:pt x="374" y="540"/>
                          <a:pt x="93" y="1770"/>
                          <a:pt x="0" y="2070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0" name=""/>
              <p:cNvGrpSpPr/>
              <p:nvPr/>
            </p:nvGrpSpPr>
            <p:grpSpPr>
              <a:xfrm>
                <a:off x="2756160" y="1981080"/>
                <a:ext cx="644040" cy="164880"/>
                <a:chOff x="2756160" y="1981080"/>
                <a:chExt cx="644040" cy="1648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2756160" y="1981080"/>
                  <a:ext cx="330840" cy="16488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069360" y="1981080"/>
                  <a:ext cx="330840" cy="16488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2616120" y="2241360"/>
                <a:ext cx="932040" cy="2435400"/>
                <a:chOff x="2616120" y="2241360"/>
                <a:chExt cx="932040" cy="2435400"/>
              </a:xfrm>
            </p:grpSpPr>
            <p:grpSp>
              <p:nvGrpSpPr>
                <p:cNvPr id="434" name=""/>
                <p:cNvGrpSpPr/>
                <p:nvPr/>
              </p:nvGrpSpPr>
              <p:grpSpPr>
                <a:xfrm>
                  <a:off x="2616120" y="2241360"/>
                  <a:ext cx="932040" cy="2435400"/>
                  <a:chOff x="2616120" y="2241360"/>
                  <a:chExt cx="932040" cy="243540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3081240" y="2906280"/>
                    <a:ext cx="0" cy="141372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742120" y="2241360"/>
                    <a:ext cx="677520" cy="66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2616120" y="3238920"/>
                    <a:ext cx="932040" cy="415800"/>
                    <a:chOff x="2616120" y="3238920"/>
                    <a:chExt cx="932040" cy="415800"/>
                  </a:xfrm>
                </p:grpSpPr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3077640" y="3238920"/>
                      <a:ext cx="470520" cy="415800"/>
                    </a:xfrm>
                    <a:prstGeom prst="line">
                      <a:avLst/>
                    </a:prstGeom>
                    <a:ln w="572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 flipH="1">
                      <a:off x="2616120" y="3238920"/>
                      <a:ext cx="470520" cy="415800"/>
                    </a:xfrm>
                    <a:prstGeom prst="line">
                      <a:avLst/>
                    </a:prstGeom>
                    <a:ln w="572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2616120" y="4260960"/>
                    <a:ext cx="932040" cy="415800"/>
                    <a:chOff x="2616120" y="4260960"/>
                    <a:chExt cx="932040" cy="415800"/>
                  </a:xfrm>
                </p:grpSpPr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3077640" y="4260960"/>
                      <a:ext cx="470520" cy="415800"/>
                    </a:xfrm>
                    <a:prstGeom prst="line">
                      <a:avLst/>
                    </a:prstGeom>
                    <a:ln w="572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 flipH="1">
                      <a:off x="2616120" y="4260960"/>
                      <a:ext cx="470520" cy="415800"/>
                    </a:xfrm>
                    <a:prstGeom prst="line">
                      <a:avLst/>
                    </a:prstGeom>
                    <a:ln w="572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3148200" y="2490480"/>
                  <a:ext cx="169200" cy="83160"/>
                  <a:chOff x="3148200" y="2490480"/>
                  <a:chExt cx="169200" cy="8316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3191400" y="2490480"/>
                    <a:ext cx="84600" cy="83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3148200" y="2490480"/>
                    <a:ext cx="1692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2870640" y="2490480"/>
                  <a:ext cx="169200" cy="83160"/>
                  <a:chOff x="2870640" y="2490480"/>
                  <a:chExt cx="169200" cy="8316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2913840" y="2490480"/>
                    <a:ext cx="84600" cy="83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870640" y="2490480"/>
                    <a:ext cx="1692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9" name=""/>
                <p:cNvSpPr/>
                <p:nvPr/>
              </p:nvSpPr>
              <p:spPr>
                <a:xfrm rot="7694400">
                  <a:off x="2940480" y="2475360"/>
                  <a:ext cx="344520" cy="32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924" y="59"/>
                      </a:moveTo>
                      <a:arcTo wR="10800" hR="10800" stAng="-5041512" swAng="59359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924" y="59"/>
                      </a:moveTo>
                      <a:arcTo wR="10800" hR="10800" stAng="-5041512" swAng="5935954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50" name=""/>
          <p:cNvGrpSpPr/>
          <p:nvPr/>
        </p:nvGrpSpPr>
        <p:grpSpPr>
          <a:xfrm>
            <a:off x="971640" y="2697120"/>
            <a:ext cx="8054640" cy="2244240"/>
            <a:chOff x="971640" y="2697120"/>
            <a:chExt cx="8054640" cy="2244240"/>
          </a:xfrm>
        </p:grpSpPr>
        <p:sp>
          <p:nvSpPr>
            <p:cNvPr id="451" name=""/>
            <p:cNvSpPr/>
            <p:nvPr/>
          </p:nvSpPr>
          <p:spPr>
            <a:xfrm>
              <a:off x="971640" y="2697120"/>
              <a:ext cx="136800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 u="sng">
                  <a:solidFill>
                    <a:srgbClr val="00000c"/>
                  </a:solidFill>
                  <a:uFillTx/>
                  <a:latin typeface="Traditional Arabic"/>
                  <a:cs typeface="Traditional Arabic"/>
                </a:rPr>
                <a:t>صفات التاء المفتوحة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 u="sng">
                  <a:solidFill>
                    <a:srgbClr val="00000c"/>
                  </a:solidFill>
                  <a:uFillTx/>
                  <a:latin typeface="Traditional Arabic"/>
                  <a:cs typeface="Traditional Arabic"/>
                </a:rPr>
                <a:t>آخر الكلمة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Times New Roman (Arabic)"/>
                  <a:cs typeface="Traditional Arabic"/>
                </a:rPr>
                <a:t>تنطق تاء</a:t>
              </a:r>
              <a:r>
                <a:rPr b="1" lang="ar-SA" sz="2000" spc="-1" strike="noStrike">
                  <a:solidFill>
                    <a:srgbClr val="ff0000"/>
                  </a:solidFill>
                  <a:latin typeface="Times New Roman (Arabic)"/>
                  <a:ea typeface="Traditional Arabic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Times New Roman (Arabic)"/>
                  <a:cs typeface="Traditional Arabic"/>
                </a:rPr>
                <a:t>في حال السكون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Times New Roman (Arabic)"/>
                  <a:cs typeface="Traditional Arabic"/>
                </a:rPr>
                <a:t>وفي حال الحركة</a:t>
              </a:r>
              <a:r>
                <a:rPr b="1" lang="ar-SA" sz="2000" spc="-1" strike="noStrike">
                  <a:solidFill>
                    <a:srgbClr val="ff0000"/>
                  </a:solidFill>
                  <a:latin typeface="Times New Roman (Arabic)"/>
                  <a:ea typeface="Traditional Arabic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Times New Roman (Arabic)"/>
                  <a:ea typeface="Traditional Arabic"/>
                </a:rPr>
                <a:t>( </a:t>
              </a:r>
              <a:r>
                <a:rPr b="1" lang="ar-SA" sz="2000" spc="-1" strike="noStrike">
                  <a:solidFill>
                    <a:srgbClr val="ff0000"/>
                  </a:solidFill>
                  <a:latin typeface="Times New Roman (Arabic)"/>
                  <a:cs typeface="Traditional Arabic"/>
                </a:rPr>
                <a:t>بيتْ</a:t>
              </a:r>
              <a:r>
                <a:rPr b="1" lang="ar-SA" sz="2000" spc="-1" strike="noStrike">
                  <a:solidFill>
                    <a:srgbClr val="ff0000"/>
                  </a:solidFill>
                  <a:latin typeface="Times New Roman (Arabic)"/>
                  <a:ea typeface="Traditional Arabic"/>
                </a:rPr>
                <a:t> </a:t>
              </a:r>
              <a:r>
                <a:rPr b="1" lang="ar-SA" sz="2000" spc="-1" strike="noStrike">
                  <a:solidFill>
                    <a:srgbClr val="ff0000"/>
                  </a:solidFill>
                  <a:latin typeface="Times New Roman (Arabic)"/>
                  <a:ea typeface="Traditional Arabic"/>
                </a:rPr>
                <a:t>) ( </a:t>
              </a:r>
              <a:r>
                <a:rPr b="1" lang="ar-SA" sz="2000" spc="-1" strike="noStrike">
                  <a:solidFill>
                    <a:srgbClr val="ff0000"/>
                  </a:solidFill>
                  <a:latin typeface="Times New Roman (Arabic)"/>
                  <a:cs typeface="Traditional Arabic"/>
                </a:rPr>
                <a:t>بيتُ</a:t>
              </a:r>
              <a:r>
                <a:rPr b="1" lang="ar-SA" sz="2000" spc="-1" strike="noStrike">
                  <a:solidFill>
                    <a:srgbClr val="ff0000"/>
                  </a:solidFill>
                  <a:latin typeface="Times New Roman (Arabic)"/>
                  <a:ea typeface="Traditional Arabic"/>
                </a:rPr>
                <a:t> </a:t>
              </a:r>
              <a:r>
                <a:rPr b="1" lang="ar-SA" sz="2000" spc="-1" strike="noStrike">
                  <a:solidFill>
                    <a:srgbClr val="ff0000"/>
                  </a:solidFill>
                  <a:latin typeface="Times New Roman (Arabic)"/>
                  <a:ea typeface="Traditional Arabic"/>
                </a:rPr>
                <a:t>)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54240" y="2697120"/>
              <a:ext cx="1472040" cy="22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 u="sng">
                  <a:solidFill>
                    <a:srgbClr val="00000c"/>
                  </a:solidFill>
                  <a:uFillTx/>
                  <a:latin typeface="Traditional Arabic"/>
                  <a:cs typeface="Traditional Arabic"/>
                </a:rPr>
                <a:t>صفات الهاء</a:t>
              </a:r>
              <a:r>
                <a:rPr b="1" lang="ar-SA" sz="1800" spc="-1" strike="noStrike" u="sng">
                  <a:solidFill>
                    <a:srgbClr val="00000c"/>
                  </a:solidFill>
                  <a:uFillTx/>
                  <a:latin typeface="Traditional Arabic"/>
                  <a:ea typeface="Traditional Arabic"/>
                </a:rPr>
                <a:t> 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 u="sng">
                  <a:solidFill>
                    <a:srgbClr val="00000c"/>
                  </a:solidFill>
                  <a:uFillTx/>
                  <a:latin typeface="Traditional Arabic"/>
                  <a:cs typeface="Traditional Arabic"/>
                </a:rPr>
                <a:t>آخر الكلمة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ff"/>
                  </a:solidFill>
                  <a:latin typeface="Times New Roman (Arabic)"/>
                  <a:cs typeface="Traditional Arabic"/>
                </a:rPr>
                <a:t>تنطق هاء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ff"/>
                  </a:solidFill>
                  <a:latin typeface="Times New Roman (Arabic)"/>
                  <a:ea typeface="Traditional Arabic"/>
                </a:rPr>
                <a:t> </a:t>
              </a:r>
              <a:r>
                <a:rPr b="1" lang="ar-SA" sz="2000" spc="-1" strike="noStrike">
                  <a:solidFill>
                    <a:srgbClr val="0000ff"/>
                  </a:solidFill>
                  <a:latin typeface="Times New Roman (Arabic)"/>
                  <a:cs typeface="Traditional Arabic"/>
                </a:rPr>
                <a:t>في حال السكون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ff"/>
                  </a:solidFill>
                  <a:latin typeface="Times New Roman (Arabic)"/>
                  <a:cs typeface="Traditional Arabic"/>
                </a:rPr>
                <a:t>وفي حال الحركة</a:t>
              </a:r>
              <a:r>
                <a:rPr b="1" lang="ar-SA" sz="2000" spc="-1" strike="noStrike">
                  <a:solidFill>
                    <a:srgbClr val="0000ff"/>
                  </a:solidFill>
                  <a:latin typeface="Times New Roman (Arabic)"/>
                  <a:ea typeface="Traditional Arabic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ff"/>
                  </a:solidFill>
                  <a:latin typeface="Times New Roman (Arabic)"/>
                  <a:ea typeface="Traditional Arabic"/>
                </a:rPr>
                <a:t>( </a:t>
              </a:r>
              <a:r>
                <a:rPr b="1" lang="ar-SA" sz="2000" spc="-1" strike="noStrike">
                  <a:solidFill>
                    <a:srgbClr val="0000ff"/>
                  </a:solidFill>
                  <a:latin typeface="Times New Roman (Arabic)"/>
                  <a:cs typeface="Traditional Arabic"/>
                </a:rPr>
                <a:t>بلادهْ</a:t>
              </a:r>
              <a:r>
                <a:rPr b="1" lang="ar-SA" sz="2000" spc="-1" strike="noStrike">
                  <a:solidFill>
                    <a:srgbClr val="0000ff"/>
                  </a:solidFill>
                  <a:latin typeface="Times New Roman (Arabic)"/>
                  <a:ea typeface="Traditional Arabic"/>
                </a:rPr>
                <a:t> </a:t>
              </a:r>
              <a:r>
                <a:rPr b="1" lang="ar-SA" sz="2000" spc="-1" strike="noStrike">
                  <a:solidFill>
                    <a:srgbClr val="0000ff"/>
                  </a:solidFill>
                  <a:latin typeface="Times New Roman (Arabic)"/>
                  <a:ea typeface="Traditional Arabic"/>
                </a:rPr>
                <a:t>) ( </a:t>
              </a:r>
              <a:r>
                <a:rPr b="1" lang="ar-SA" sz="2000" spc="-1" strike="noStrike">
                  <a:solidFill>
                    <a:srgbClr val="0000ff"/>
                  </a:solidFill>
                  <a:latin typeface="Times New Roman (Arabic)"/>
                  <a:cs typeface="Traditional Arabic"/>
                </a:rPr>
                <a:t>بلادهُ</a:t>
              </a:r>
              <a:r>
                <a:rPr b="1" lang="ar-SA" sz="2000" spc="-1" strike="noStrike">
                  <a:solidFill>
                    <a:srgbClr val="0000ff"/>
                  </a:solidFill>
                  <a:latin typeface="Times New Roman (Arabic)"/>
                  <a:ea typeface="Traditional Arabic"/>
                </a:rPr>
                <a:t> </a:t>
              </a:r>
              <a:r>
                <a:rPr b="1" lang="ar-SA" sz="2000" spc="-1" strike="noStrike">
                  <a:solidFill>
                    <a:srgbClr val="0000ff"/>
                  </a:solidFill>
                  <a:latin typeface="Times New Roman (Arabic)"/>
                  <a:ea typeface="Traditional Arabic"/>
                </a:rPr>
                <a:t>)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187280" y="976320"/>
            <a:ext cx="7670520" cy="1068840"/>
            <a:chOff x="1187280" y="976320"/>
            <a:chExt cx="7670520" cy="1068840"/>
          </a:xfrm>
        </p:grpSpPr>
        <p:sp>
          <p:nvSpPr>
            <p:cNvPr id="454" name=""/>
            <p:cNvSpPr/>
            <p:nvPr/>
          </p:nvSpPr>
          <p:spPr>
            <a:xfrm>
              <a:off x="1187280" y="976320"/>
              <a:ext cx="7458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eaeaea"/>
                  </a:solidFill>
                  <a:latin typeface="Arial Narrow"/>
                  <a:cs typeface="Traditional Arabic"/>
                </a:rPr>
                <a:t>فأخذت </a:t>
              </a:r>
              <a:r>
                <a:rPr b="1" lang="ar-SA" sz="3200" spc="-1" strike="noStrike">
                  <a:solidFill>
                    <a:srgbClr val="a69e52"/>
                  </a:solidFill>
                  <a:latin typeface="Arial Narrow"/>
                  <a:cs typeface="Traditional Arabic"/>
                </a:rPr>
                <a:t>التاء المربوطة</a:t>
              </a:r>
              <a:r>
                <a:rPr b="1" lang="ar-SA" sz="3200" spc="-1" strike="noStrike">
                  <a:solidFill>
                    <a:srgbClr val="eaeaea"/>
                  </a:solidFill>
                  <a:latin typeface="Arial Narrow"/>
                  <a:ea typeface="Traditional Arabic"/>
                </a:rPr>
                <a:t> من أبيها  </a:t>
              </a:r>
              <a:r>
                <a:rPr b="1" lang="ar-SA" sz="3200" spc="-1" strike="noStrike">
                  <a:solidFill>
                    <a:srgbClr val="0066ff"/>
                  </a:solidFill>
                  <a:latin typeface="Arial Narrow"/>
                  <a:cs typeface="Traditional Arabic"/>
                </a:rPr>
                <a:t>الهاء</a:t>
              </a:r>
              <a:r>
                <a:rPr b="1" lang="ar-SA" sz="3200" spc="-1" strike="noStrike">
                  <a:solidFill>
                    <a:srgbClr val="eaeaea"/>
                  </a:solidFill>
                  <a:latin typeface="Arial Narrow"/>
                  <a:ea typeface="Traditional Arabic"/>
                </a:rPr>
                <a:t> صوته في حال السكون </a:t>
              </a:r>
              <a:r>
                <a:rPr b="1" lang="ar-SA" sz="3200" spc="-1" strike="noStrike">
                  <a:solidFill>
                    <a:srgbClr val="ffff00"/>
                  </a:solidFill>
                  <a:latin typeface="Arial Narrow"/>
                  <a:ea typeface="Traditional Arabic"/>
                </a:rPr>
                <a:t>(</a:t>
              </a:r>
              <a:r>
                <a:rPr b="1" lang="ar-SA" sz="3200" spc="-1" strike="noStrike">
                  <a:solidFill>
                    <a:srgbClr val="eaeaea"/>
                  </a:solidFill>
                  <a:latin typeface="Arial Narrow"/>
                  <a:ea typeface="Traditional Arabic"/>
                </a:rPr>
                <a:t>  ْ  </a:t>
              </a:r>
              <a:r>
                <a:rPr b="1" lang="ar-SA" sz="3200" spc="-1" strike="noStrike">
                  <a:solidFill>
                    <a:srgbClr val="ffff00"/>
                  </a:solidFill>
                  <a:latin typeface="Arial Narrow"/>
                  <a:ea typeface="Traditional Arabic"/>
                </a:rPr>
                <a:t>)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55" name="" descr=""/>
            <p:cNvPicPr/>
            <p:nvPr/>
          </p:nvPicPr>
          <p:blipFill>
            <a:blip r:embed="rId1"/>
            <a:stretch/>
          </p:blipFill>
          <p:spPr>
            <a:xfrm>
              <a:off x="8684280" y="1123920"/>
              <a:ext cx="173520" cy="17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6" name=""/>
          <p:cNvGrpSpPr/>
          <p:nvPr/>
        </p:nvGrpSpPr>
        <p:grpSpPr>
          <a:xfrm>
            <a:off x="915840" y="5802480"/>
            <a:ext cx="8192880" cy="1068840"/>
            <a:chOff x="915840" y="5802480"/>
            <a:chExt cx="8192880" cy="1068840"/>
          </a:xfrm>
        </p:grpSpPr>
        <p:sp>
          <p:nvSpPr>
            <p:cNvPr id="457" name=""/>
            <p:cNvSpPr/>
            <p:nvPr/>
          </p:nvSpPr>
          <p:spPr>
            <a:xfrm>
              <a:off x="915840" y="5802480"/>
              <a:ext cx="7945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eaeaea"/>
                  </a:solidFill>
                  <a:latin typeface="Arial Narrow"/>
                  <a:cs typeface="Traditional Arabic"/>
                </a:rPr>
                <a:t>وأخذت من أمها </a:t>
              </a:r>
              <a:r>
                <a:rPr b="1" lang="ar-SA" sz="3200" spc="-1" strike="noStrike">
                  <a:solidFill>
                    <a:srgbClr val="cc0000"/>
                  </a:solidFill>
                  <a:latin typeface="Arial Narrow"/>
                  <a:cs typeface="Traditional Arabic"/>
                </a:rPr>
                <a:t>التاء المفتوحة</a:t>
              </a:r>
              <a:r>
                <a:rPr b="1" lang="ar-SA" sz="3200" spc="-1" strike="noStrike">
                  <a:solidFill>
                    <a:srgbClr val="eaeaea"/>
                  </a:solidFill>
                  <a:latin typeface="Arial Narrow"/>
                  <a:ea typeface="Traditional Arabic"/>
                </a:rPr>
                <a:t> صوتها في حال الحركة </a:t>
              </a:r>
              <a:r>
                <a:rPr b="1" lang="ar-SA" sz="3200" spc="-1" strike="noStrike">
                  <a:solidFill>
                    <a:srgbClr val="ffff00"/>
                  </a:solidFill>
                  <a:latin typeface="Arial Narrow"/>
                  <a:ea typeface="Traditional Arabic"/>
                </a:rPr>
                <a:t>(</a:t>
              </a:r>
              <a:r>
                <a:rPr b="1" lang="ar-SA" sz="3200" spc="-1" strike="noStrike">
                  <a:solidFill>
                    <a:srgbClr val="eaeaea"/>
                  </a:solidFill>
                  <a:latin typeface="Arial Narrow"/>
                  <a:ea typeface="Traditional Arabic"/>
                </a:rPr>
                <a:t>  ُ  َ ِ </a:t>
              </a:r>
              <a:r>
                <a:rPr b="1" lang="ar-SA" sz="3200" spc="-1" strike="noStrike">
                  <a:solidFill>
                    <a:srgbClr val="ffff00"/>
                  </a:solidFill>
                  <a:latin typeface="Arial Narrow"/>
                  <a:ea typeface="Traditional Arabic"/>
                </a:rPr>
                <a:t>)</a:t>
              </a:r>
              <a:r>
                <a:rPr b="1" lang="ar-SA" sz="3200" spc="-1" strike="noStrike">
                  <a:solidFill>
                    <a:srgbClr val="eaeaea"/>
                  </a:solidFill>
                  <a:latin typeface="Arial Narrow"/>
                  <a:ea typeface="Traditional Arabic"/>
                </a:rPr>
                <a:t> و التنوين 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58" name="" descr=""/>
            <p:cNvPicPr/>
            <p:nvPr/>
          </p:nvPicPr>
          <p:blipFill>
            <a:blip r:embed="rId2"/>
            <a:stretch/>
          </p:blipFill>
          <p:spPr>
            <a:xfrm>
              <a:off x="8923680" y="5954760"/>
              <a:ext cx="185040" cy="171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484360" y="563400"/>
            <a:ext cx="467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Arial Narrow"/>
                <a:cs typeface="Traditional Arabic"/>
              </a:rPr>
              <a:t>أمثلة على التاء المربوطة وهي ساكن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700360" y="2190600"/>
            <a:ext cx="4343400" cy="2016360"/>
          </a:xfrm>
          <a:prstGeom prst="upArrowCallout">
            <a:avLst>
              <a:gd name="adj1" fmla="val 22361"/>
              <a:gd name="adj2" fmla="val 24881"/>
              <a:gd name="adj3" fmla="val 25778"/>
              <a:gd name="adj4" fmla="val 94017"/>
            </a:avLst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7e00"/>
                </a:solidFill>
                <a:latin typeface="Arial Narrow"/>
                <a:cs typeface="Traditional Arabic"/>
              </a:rPr>
              <a:t>لاحظ أنها تنطق في حال السكون ها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371600" y="138600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4dfe8"/>
                </a:solidFill>
                <a:latin typeface="Arial Narrow"/>
                <a:cs typeface="Traditional Arabic"/>
              </a:rPr>
              <a:t>مبرا</a:t>
            </a:r>
            <a:r>
              <a:rPr b="1" lang="ar-SA" sz="3200" spc="-1" strike="noStrike">
                <a:solidFill>
                  <a:srgbClr val="ccff33"/>
                </a:solidFill>
                <a:latin typeface="Arial Narrow"/>
                <a:cs typeface="Traditional Arabic"/>
              </a:rPr>
              <a:t>ة</a:t>
            </a:r>
            <a:r>
              <a:rPr b="1" lang="ar-SA" sz="3200" spc="-1" strike="noStrike">
                <a:solidFill>
                  <a:srgbClr val="ff0000"/>
                </a:solidFill>
                <a:latin typeface="Arial Narrow"/>
                <a:ea typeface="Traditional Arabic"/>
              </a:rPr>
              <a:t> ْْْْ</a:t>
            </a:r>
            <a:r>
              <a:rPr b="1" lang="ar-SA" sz="3200" spc="-1" strike="noStrike">
                <a:solidFill>
                  <a:srgbClr val="64dfe8"/>
                </a:solidFill>
                <a:latin typeface="Arial Narrow"/>
                <a:ea typeface="Traditional Arabic"/>
              </a:rPr>
              <a:t> ،  حقيب</a:t>
            </a:r>
            <a:r>
              <a:rPr b="1" lang="ar-SA" sz="3200" spc="-1" strike="noStrike">
                <a:solidFill>
                  <a:srgbClr val="ccff33"/>
                </a:solidFill>
                <a:latin typeface="Arial Narrow"/>
                <a:cs typeface="Traditional Arabic"/>
              </a:rPr>
              <a:t>ة</a:t>
            </a:r>
            <a:r>
              <a:rPr b="1" lang="ar-SA" sz="3200" spc="-1" strike="noStrike">
                <a:solidFill>
                  <a:srgbClr val="ff0000"/>
                </a:solidFill>
                <a:latin typeface="Arial Narrow"/>
                <a:ea typeface="Traditional Arabic"/>
              </a:rPr>
              <a:t> ْْْْ</a:t>
            </a:r>
            <a:r>
              <a:rPr b="1" lang="ar-SA" sz="3200" spc="-1" strike="noStrike">
                <a:solidFill>
                  <a:srgbClr val="64dfe8"/>
                </a:solidFill>
                <a:latin typeface="Arial Narrow"/>
                <a:ea typeface="Traditional Arabic"/>
              </a:rPr>
              <a:t> ،  تفاح</a:t>
            </a:r>
            <a:r>
              <a:rPr b="1" lang="ar-SA" sz="3200" spc="-1" strike="noStrike">
                <a:solidFill>
                  <a:srgbClr val="ccff33"/>
                </a:solidFill>
                <a:latin typeface="Arial Narrow"/>
                <a:cs typeface="Traditional Arabic"/>
              </a:rPr>
              <a:t>ة</a:t>
            </a:r>
            <a:r>
              <a:rPr b="1" lang="ar-SA" sz="3200" spc="-1" strike="noStrike">
                <a:solidFill>
                  <a:srgbClr val="ff0000"/>
                </a:solidFill>
                <a:latin typeface="Arial Narrow"/>
                <a:ea typeface="Traditional Arabic"/>
              </a:rPr>
              <a:t> ْْْْ </a:t>
            </a:r>
            <a:r>
              <a:rPr b="1" lang="ar-SA" sz="3200" spc="-1" strike="noStrike">
                <a:solidFill>
                  <a:srgbClr val="64dfe8"/>
                </a:solidFill>
                <a:latin typeface="Arial Narrow"/>
                <a:cs typeface="Traditional Arabic"/>
              </a:rPr>
              <a:t>،  مدرس</a:t>
            </a:r>
            <a:r>
              <a:rPr b="1" lang="ar-SA" sz="3200" spc="-1" strike="noStrike">
                <a:solidFill>
                  <a:srgbClr val="ccff33"/>
                </a:solidFill>
                <a:latin typeface="Arial Narrow"/>
                <a:cs typeface="Traditional Arabic"/>
              </a:rPr>
              <a:t>ة</a:t>
            </a:r>
            <a:r>
              <a:rPr b="1" lang="ar-SA" sz="3200" spc="-1" strike="noStrike">
                <a:solidFill>
                  <a:srgbClr val="ff0000"/>
                </a:solidFill>
                <a:latin typeface="Arial Narrow"/>
                <a:ea typeface="Traditional Arabic"/>
              </a:rPr>
              <a:t> ْْْْ</a:t>
            </a:r>
            <a:r>
              <a:rPr b="1" lang="ar-SA" sz="3200" spc="-1" strike="noStrike">
                <a:solidFill>
                  <a:srgbClr val="64dfe8"/>
                </a:solidFill>
                <a:latin typeface="Arial Narrow"/>
                <a:ea typeface="Traditional Arabic"/>
              </a:rPr>
              <a:t> ،  معاوي</a:t>
            </a:r>
            <a:r>
              <a:rPr b="1" lang="ar-SA" sz="3200" spc="-1" strike="noStrike">
                <a:solidFill>
                  <a:srgbClr val="ccff33"/>
                </a:solidFill>
                <a:latin typeface="Arial Narrow"/>
                <a:cs typeface="Traditional Arabic"/>
              </a:rPr>
              <a:t>ة</a:t>
            </a:r>
            <a:r>
              <a:rPr b="1" lang="ar-SA" sz="3200" spc="-1" strike="noStrike">
                <a:solidFill>
                  <a:srgbClr val="ff0000"/>
                </a:solidFill>
                <a:latin typeface="Arial Narrow"/>
                <a:ea typeface="Traditional Arabic"/>
              </a:rPr>
              <a:t> ْْْْ</a:t>
            </a:r>
            <a:r>
              <a:rPr b="1" lang="ar-SA" sz="3200" spc="-1" strike="noStrike">
                <a:solidFill>
                  <a:srgbClr val="ccff33"/>
                </a:solidFill>
                <a:latin typeface="Arial Narrow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64dfe8"/>
                </a:solidFill>
                <a:latin typeface="Arial Narrow"/>
                <a:cs typeface="Traditional Arabic"/>
              </a:rPr>
              <a:t>،  فاطم</a:t>
            </a:r>
            <a:r>
              <a:rPr b="1" lang="ar-SA" sz="3200" spc="-1" strike="noStrike">
                <a:solidFill>
                  <a:srgbClr val="ccff33"/>
                </a:solidFill>
                <a:latin typeface="Arial Narrow"/>
                <a:cs typeface="Traditional Arabic"/>
              </a:rPr>
              <a:t>ة</a:t>
            </a:r>
            <a:r>
              <a:rPr b="1" lang="ar-SA" sz="3200" spc="-1" strike="noStrike">
                <a:solidFill>
                  <a:srgbClr val="ff0000"/>
                </a:solidFill>
                <a:latin typeface="Arial Narrow"/>
                <a:ea typeface="Traditional Arabic"/>
              </a:rPr>
              <a:t> ْْْْ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87400" y="3508200"/>
            <a:ext cx="58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Arial Narrow"/>
                <a:cs typeface="Traditional Arabic"/>
              </a:rPr>
              <a:t>أمثلة على التاء المربوطة وهي محركة أو منون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93760" y="43434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4dfe8"/>
                </a:solidFill>
                <a:latin typeface="Arial Narrow"/>
                <a:cs typeface="Traditional Arabic"/>
              </a:rPr>
              <a:t>مبرا</a:t>
            </a:r>
            <a:r>
              <a:rPr b="1" lang="ar-SA" sz="3200" spc="-1" strike="noStrike">
                <a:solidFill>
                  <a:srgbClr val="ccff33"/>
                </a:solidFill>
                <a:latin typeface="Arial Narrow"/>
                <a:cs typeface="Traditional Arabic"/>
              </a:rPr>
              <a:t>ة</a:t>
            </a:r>
            <a:r>
              <a:rPr b="1" lang="ar-SA" sz="3200" spc="-1" strike="noStrike">
                <a:solidFill>
                  <a:srgbClr val="ff0000"/>
                </a:solidFill>
                <a:latin typeface="Arial Narrow"/>
                <a:ea typeface="Traditional Arabic"/>
              </a:rPr>
              <a:t> ُ</a:t>
            </a:r>
            <a:r>
              <a:rPr b="1" lang="ar-SA" sz="3200" spc="-1" strike="noStrike">
                <a:solidFill>
                  <a:srgbClr val="64dfe8"/>
                </a:solidFill>
                <a:latin typeface="Arial Narrow"/>
                <a:ea typeface="Traditional Arabic"/>
              </a:rPr>
              <a:t>  ،  حقيب</a:t>
            </a:r>
            <a:r>
              <a:rPr b="1" lang="ar-SA" sz="3200" spc="-1" strike="noStrike">
                <a:solidFill>
                  <a:srgbClr val="ccff33"/>
                </a:solidFill>
                <a:latin typeface="Arial Narrow"/>
                <a:cs typeface="Traditional Arabic"/>
              </a:rPr>
              <a:t>ة </a:t>
            </a:r>
            <a:r>
              <a:rPr b="1" lang="ar-SA" sz="3200" spc="-1" strike="noStrike">
                <a:solidFill>
                  <a:srgbClr val="ff0000"/>
                </a:solidFill>
                <a:latin typeface="Arial Narrow"/>
                <a:cs typeface="Traditional Arabic"/>
              </a:rPr>
              <a:t>َ</a:t>
            </a:r>
            <a:r>
              <a:rPr b="1" lang="ar-SA" sz="3200" spc="-1" strike="noStrike">
                <a:solidFill>
                  <a:srgbClr val="64dfe8"/>
                </a:solidFill>
                <a:latin typeface="Arial Narrow"/>
                <a:ea typeface="Traditional Arabic"/>
              </a:rPr>
              <a:t> ،  تفاح</a:t>
            </a:r>
            <a:r>
              <a:rPr b="1" lang="ar-SA" sz="3200" spc="-1" strike="noStrike">
                <a:solidFill>
                  <a:srgbClr val="ccff33"/>
                </a:solidFill>
                <a:latin typeface="Arial Narrow"/>
                <a:cs typeface="Traditional Arabic"/>
              </a:rPr>
              <a:t>ة</a:t>
            </a:r>
            <a:r>
              <a:rPr b="1" lang="ar-SA" sz="3200" spc="-1" strike="noStrike">
                <a:solidFill>
                  <a:srgbClr val="ff0000"/>
                </a:solidFill>
                <a:latin typeface="Arial Narrow"/>
                <a:ea typeface="Traditional Arabic"/>
              </a:rPr>
              <a:t> ِ</a:t>
            </a:r>
            <a:r>
              <a:rPr b="1" lang="ar-SA" sz="3200" spc="-1" strike="noStrike">
                <a:solidFill>
                  <a:srgbClr val="64dfe8"/>
                </a:solidFill>
                <a:latin typeface="Arial Narrow"/>
                <a:ea typeface="Traditional Arabic"/>
              </a:rPr>
              <a:t>  ،  مدرس</a:t>
            </a:r>
            <a:r>
              <a:rPr b="1" lang="ar-SA" sz="3200" spc="-1" strike="noStrike">
                <a:solidFill>
                  <a:srgbClr val="ccff33"/>
                </a:solidFill>
                <a:latin typeface="Arial Narrow"/>
                <a:cs typeface="Traditional Arabic"/>
              </a:rPr>
              <a:t>ة</a:t>
            </a:r>
            <a:r>
              <a:rPr b="1" lang="ar-SA" sz="3200" spc="-1" strike="noStrike">
                <a:solidFill>
                  <a:srgbClr val="ff0000"/>
                </a:solidFill>
                <a:latin typeface="Arial Narrow"/>
                <a:ea typeface="Traditional Arabic"/>
              </a:rPr>
              <a:t> ُ ُ</a:t>
            </a:r>
            <a:r>
              <a:rPr b="1" lang="ar-SA" sz="3200" spc="-1" strike="noStrike">
                <a:solidFill>
                  <a:srgbClr val="64dfe8"/>
                </a:solidFill>
                <a:latin typeface="Arial Narrow"/>
                <a:ea typeface="Traditional Arabic"/>
              </a:rPr>
              <a:t> ،  معاوي</a:t>
            </a:r>
            <a:r>
              <a:rPr b="1" lang="ar-SA" sz="3200" spc="-1" strike="noStrike">
                <a:solidFill>
                  <a:srgbClr val="ccff33"/>
                </a:solidFill>
                <a:latin typeface="Arial Narrow"/>
                <a:cs typeface="Traditional Arabic"/>
              </a:rPr>
              <a:t>ة</a:t>
            </a:r>
            <a:r>
              <a:rPr b="1" lang="ar-SA" sz="3200" spc="-1" strike="noStrike">
                <a:solidFill>
                  <a:srgbClr val="ff0000"/>
                </a:solidFill>
                <a:latin typeface="Arial Narrow"/>
                <a:ea typeface="Traditional Arabic"/>
              </a:rPr>
              <a:t> ً</a:t>
            </a:r>
            <a:r>
              <a:rPr b="1" lang="ar-SA" sz="3200" spc="-1" strike="noStrike">
                <a:solidFill>
                  <a:srgbClr val="64dfe8"/>
                </a:solidFill>
                <a:latin typeface="Arial Narrow"/>
                <a:ea typeface="Traditional Arabic"/>
              </a:rPr>
              <a:t> ،  فاطم</a:t>
            </a:r>
            <a:r>
              <a:rPr b="1" lang="ar-SA" sz="3200" spc="-1" strike="noStrike">
                <a:solidFill>
                  <a:srgbClr val="ccff33"/>
                </a:solidFill>
                <a:latin typeface="Arial Narrow"/>
                <a:cs typeface="Traditional Arabic"/>
              </a:rPr>
              <a:t>ة</a:t>
            </a:r>
            <a:r>
              <a:rPr b="1" lang="ar-SA" sz="3200" spc="-1" strike="noStrike">
                <a:solidFill>
                  <a:srgbClr val="ff0000"/>
                </a:solidFill>
                <a:latin typeface="Arial Narrow"/>
                <a:ea typeface="Traditional Arabic"/>
              </a:rPr>
              <a:t> ٍ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1320" y="5143680"/>
            <a:ext cx="5178240" cy="2016000"/>
          </a:xfrm>
          <a:prstGeom prst="upArrowCallout">
            <a:avLst>
              <a:gd name="adj1" fmla="val 26663"/>
              <a:gd name="adj2" fmla="val 29669"/>
              <a:gd name="adj3" fmla="val 28319"/>
              <a:gd name="adj4" fmla="val 94017"/>
            </a:avLst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7e00"/>
                </a:solidFill>
                <a:latin typeface="Arial Narrow"/>
                <a:cs typeface="Traditional Arabic"/>
              </a:rPr>
              <a:t>لاحظ أنها تنطق في حال الحركة أو التنوين تا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484360" y="-84240"/>
            <a:ext cx="5589720" cy="407736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rial Narrow"/>
                <a:cs typeface="Traditional Arabic"/>
              </a:rPr>
              <a:t>الخلاصــة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35280" y="501336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c7e00"/>
                </a:solidFill>
                <a:latin typeface="Arial Narrow"/>
                <a:cs typeface="Traditional Arabic"/>
              </a:rPr>
              <a:t>هذا والله أعلم وصلي اللهم على محمد وعلى آله وصحبه وسل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603440" y="1628640"/>
            <a:ext cx="6208560" cy="2252160"/>
            <a:chOff x="1603440" y="1628640"/>
            <a:chExt cx="6208560" cy="2252160"/>
          </a:xfrm>
        </p:grpSpPr>
        <p:sp>
          <p:nvSpPr>
            <p:cNvPr id="468" name=""/>
            <p:cNvSpPr/>
            <p:nvPr/>
          </p:nvSpPr>
          <p:spPr>
            <a:xfrm>
              <a:off x="1603440" y="1628640"/>
              <a:ext cx="6208560" cy="22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5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 rtl="1">
                <a:lnSpc>
                  <a:spcPct val="5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00"/>
                  </a:solidFill>
                  <a:latin typeface="Arial Narrow"/>
                  <a:cs typeface="Traditional Arabic"/>
                </a:rPr>
                <a:t>تنطق التاء المربوطة هاء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 rtl="1">
                <a:lnSpc>
                  <a:spcPct val="5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00"/>
                  </a:solidFill>
                  <a:latin typeface="Arial Narrow"/>
                  <a:cs typeface="Traditional Arabic"/>
                </a:rPr>
                <a:t>في حال السكون و الوقف على الكلمة</a:t>
              </a:r>
              <a:r>
                <a:rPr b="1" lang="ar-SA" sz="4000" spc="-1" strike="noStrike">
                  <a:solidFill>
                    <a:srgbClr val="ff0000"/>
                  </a:solidFill>
                  <a:latin typeface="Arial Narrow"/>
                  <a:ea typeface="Traditional Arabic"/>
                </a:rPr>
                <a:t>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69" name="" descr=""/>
            <p:cNvPicPr/>
            <p:nvPr/>
          </p:nvPicPr>
          <p:blipFill>
            <a:blip r:embed="rId1"/>
            <a:stretch/>
          </p:blipFill>
          <p:spPr>
            <a:xfrm>
              <a:off x="6356520" y="2198520"/>
              <a:ext cx="377640" cy="29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"/>
          <p:cNvGrpSpPr/>
          <p:nvPr/>
        </p:nvGrpSpPr>
        <p:grpSpPr>
          <a:xfrm>
            <a:off x="755640" y="3141720"/>
            <a:ext cx="7956720" cy="1947240"/>
            <a:chOff x="755640" y="3141720"/>
            <a:chExt cx="7956720" cy="1947240"/>
          </a:xfrm>
        </p:grpSpPr>
        <p:sp>
          <p:nvSpPr>
            <p:cNvPr id="471" name=""/>
            <p:cNvSpPr/>
            <p:nvPr/>
          </p:nvSpPr>
          <p:spPr>
            <a:xfrm>
              <a:off x="755640" y="3141720"/>
              <a:ext cx="7956720" cy="194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5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00"/>
                  </a:solidFill>
                  <a:latin typeface="Arial Narrow"/>
                  <a:ea typeface="Traditional Arabic"/>
                </a:rPr>
                <a:t>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 rtl="1">
                <a:lnSpc>
                  <a:spcPct val="5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00"/>
                  </a:solidFill>
                  <a:latin typeface="Arial Narrow"/>
                  <a:ea typeface="Traditional Arabic"/>
                </a:rPr>
                <a:t> وتنطق التاء المربوطة تاء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 rtl="1">
                <a:lnSpc>
                  <a:spcPct val="5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00"/>
                  </a:solidFill>
                  <a:latin typeface="Arial Narrow"/>
                  <a:cs typeface="Traditional Arabic"/>
                </a:rPr>
                <a:t>في حال الحركة و التنوين وعند وصل الكلمة بما بعدها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72" name="" descr=""/>
            <p:cNvPicPr/>
            <p:nvPr/>
          </p:nvPicPr>
          <p:blipFill>
            <a:blip r:embed="rId2"/>
            <a:stretch/>
          </p:blipFill>
          <p:spPr>
            <a:xfrm>
              <a:off x="6372360" y="3763800"/>
              <a:ext cx="377640" cy="29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"/>
          <p:cNvSpPr/>
          <p:nvPr/>
        </p:nvSpPr>
        <p:spPr>
          <a:xfrm>
            <a:off x="2371680" y="5373720"/>
            <a:ext cx="46483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Arial Narrow"/>
                <a:cs typeface="Traditional Arabic"/>
              </a:rPr>
              <a:t>للمراسلة</a:t>
            </a: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Traditional Arabic"/>
              </a:rPr>
              <a:t> </a:t>
            </a:r>
            <a:r>
              <a:rPr b="1" lang="ar-SA" sz="3600" spc="-1" strike="noStrike">
                <a:solidFill>
                  <a:srgbClr val="cc0000"/>
                </a:solidFill>
                <a:latin typeface="Arial Narrow"/>
                <a:ea typeface="Traditional Arabic"/>
              </a:rPr>
              <a:t> أو الاستفسار :</a:t>
            </a:r>
            <a:r>
              <a:rPr b="1" lang="en-US" sz="3200" spc="-1" strike="noStrike">
                <a:solidFill>
                  <a:srgbClr val="cc0000"/>
                </a:solidFill>
                <a:latin typeface="Arial Narrow"/>
                <a:ea typeface="Traditional Arabic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  <a:ea typeface="Traditional Arabic"/>
              </a:rPr>
              <a:t>E - mail   meedo51@hotmail.c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21:11:55Z</dcterms:created>
  <dc:creator>CARESSA</dc:creator>
  <dc:description/>
  <dc:language>en-US</dc:language>
  <cp:lastModifiedBy>***</cp:lastModifiedBy>
  <dcterms:modified xsi:type="dcterms:W3CDTF">2004-08-20T13:29:51Z</dcterms:modified>
  <cp:revision>81</cp:revision>
  <dc:subject/>
  <dc:title>التاء المربو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ToCenter">
    <vt:lpwstr>1</vt:lpwstr>
  </property>
  <property fmtid="{D5CDD505-2E9C-101B-9397-08002B2CF9AE}" pid="3" name="ContUser">
    <vt:lpwstr/>
  </property>
  <property fmtid="{D5CDD505-2E9C-101B-9397-08002B2CF9AE}" pid="4" name="EditFlg">
    <vt:lpwstr>1</vt:lpwstr>
  </property>
  <property fmtid="{D5CDD505-2E9C-101B-9397-08002B2CF9AE}" pid="5" name="Layer">
    <vt:lpwstr>;#الصف الاول;#</vt:lpwstr>
  </property>
  <property fmtid="{D5CDD505-2E9C-101B-9397-08002B2CF9AE}" pid="6" name="Profession">
    <vt:lpwstr>;#اللغة العربية;#</vt:lpwstr>
  </property>
  <property fmtid="{D5CDD505-2E9C-101B-9397-08002B2CF9AE}" pid="7" name="SchoolType">
    <vt:lpwstr>;#בית ספר יסודי;#</vt:lpwstr>
  </property>
  <property fmtid="{D5CDD505-2E9C-101B-9397-08002B2CF9AE}" pid="8" name="Sector">
    <vt:lpwstr>;#מגזר ערבי;#</vt:lpwstr>
  </property>
  <property fmtid="{D5CDD505-2E9C-101B-9397-08002B2CF9AE}" pid="9" name="SismaTaxonomyCatalogField">
    <vt:lpwstr>3;#الصف الاول|5e7ae4b8-16d5-42d4-9835-75477037f8d7</vt:lpwstr>
  </property>
  <property fmtid="{D5CDD505-2E9C-101B-9397-08002B2CF9AE}" pid="10" name="SismaTaxonomyCatalogFieldTaxHTField0">
    <vt:lpwstr>الصف الاول|5e7ae4b8-16d5-42d4-9835-75477037f8d7</vt:lpwstr>
  </property>
  <property fmtid="{D5CDD505-2E9C-101B-9397-08002B2CF9AE}" pid="11" name="SubSubject">
    <vt:lpwstr/>
  </property>
  <property fmtid="{D5CDD505-2E9C-101B-9397-08002B2CF9AE}" pid="12" name="TaxCatchAll">
    <vt:lpwstr>3;#الصف الاول|5e7ae4b8-16d5-42d4-9835-75477037f8d7</vt:lpwstr>
  </property>
  <property fmtid="{D5CDD505-2E9C-101B-9397-08002B2CF9AE}" pid="13" name="TaxKeyword">
    <vt:lpwstr/>
  </property>
  <property fmtid="{D5CDD505-2E9C-101B-9397-08002B2CF9AE}" pid="14" name="TaxKeywordTaxHTField">
    <vt:lpwstr/>
  </property>
  <property fmtid="{D5CDD505-2E9C-101B-9397-08002B2CF9AE}" pid="15" name="URL">
    <vt:lpwstr>http://sh.sisma.org.il/school/elbasalya/sismayeada/DocLib/NN4FASQAR76U-123-26-التاء%20المربوطة.ppt, التاء المربوطة</vt:lpwstr>
  </property>
  <property fmtid="{D5CDD505-2E9C-101B-9397-08002B2CF9AE}" pid="16" name="_dlc_DocId">
    <vt:lpwstr>NN4FASQAR76U-123-26</vt:lpwstr>
  </property>
  <property fmtid="{D5CDD505-2E9C-101B-9397-08002B2CF9AE}" pid="17" name="_dlc_DocIdItemGuid">
    <vt:lpwstr>ea7c385c-c499-4c86-b615-a2e00d9d5d16</vt:lpwstr>
  </property>
  <property fmtid="{D5CDD505-2E9C-101B-9397-08002B2CF9AE}" pid="18" name="_dlc_DocIdUrl">
    <vt:lpwstr>http://sh.sisma.org.il/school/elbasalya/sismayeada/_layouts/DocIdRedir.aspx?ID=NN4FASQAR76U-123-26, NN4FASQAR76U-123-26</vt:lpwstr>
  </property>
  <property fmtid="{D5CDD505-2E9C-101B-9397-08002B2CF9AE}" pid="19" name="school_Classification">
    <vt:lpwstr>הצגת נושא לימודי</vt:lpwstr>
  </property>
  <property fmtid="{D5CDD505-2E9C-101B-9397-08002B2CF9AE}" pid="20" name="school_DisplayClass">
    <vt:lpwstr>;#כיתה א-1;#כיתה א-2;#</vt:lpwstr>
  </property>
</Properties>
</file>